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88C3-BF38-44B3-8847-E7CD2DB8AF1A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59F1-2E41-4E9E-9DF8-5E6968779DED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E584-C516-40B4-9D7B-28D35A6F3956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6862-DF07-4F99-B4C9-E6A3DF11816B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DEA2-8388-4314-AF1C-D70427226D10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DCC1-F675-4199-A5AC-F5435643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0416-A4C5-4ECE-835A-FBA8C44C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2C58-F53C-4341-BFF3-465A4DB4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F28-0515-4A8E-A11A-2C932E3B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F403-FC34-4066-9127-32D30751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C058-1252-4FC4-8906-182D4634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567F-BDA7-4174-8627-D2B9FE8A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C39D-C134-4A42-A33E-30BBF517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6CA8-D610-4E88-BB05-BC307928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D7D-72D6-485E-9423-40913D0B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9739-830C-4789-8B7A-CAE3C459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200B-6051-421F-8B2D-ADC1602C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78EF-1A46-4C7F-A2EE-18D1F83F9D55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Calibri"/>
              </a:rPr>
              <a:t>How to login to your Dashbo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To listen to the narration please ensure that your sound system is turned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28-03-2011 19-46-30.jpg"/>
          <p:cNvPicPr/>
          <p:nvPr/>
        </p:nvPicPr>
        <p:blipFill>
          <a:blip r:embed="rId1"/>
          <a:stretch/>
        </p:blipFill>
        <p:spPr>
          <a:xfrm>
            <a:off x="3348000" y="4941720"/>
            <a:ext cx="2448000" cy="1486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Mary Clare\Pictures\JCS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Snagit_PPT9255" descr="PPT9255.png"/>
          <p:cNvPicPr/>
          <p:nvPr/>
        </p:nvPicPr>
        <p:blipFill>
          <a:blip r:embed="rId1"/>
          <a:stretch/>
        </p:blipFill>
        <p:spPr>
          <a:xfrm>
            <a:off x="0" y="0"/>
            <a:ext cx="1018872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~PP2956.WAV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Snagit_PPT7745" descr="PPT7745.png"/>
          <p:cNvPicPr/>
          <p:nvPr/>
        </p:nvPicPr>
        <p:blipFill>
          <a:blip r:embed="rId1"/>
          <a:stretch/>
        </p:blipFill>
        <p:spPr>
          <a:xfrm>
            <a:off x="0" y="0"/>
            <a:ext cx="12998520" cy="6956280"/>
          </a:xfrm>
          <a:prstGeom prst="rect">
            <a:avLst/>
          </a:prstGeom>
          <a:ln w="0">
            <a:noFill/>
          </a:ln>
        </p:spPr>
      </p:pic>
      <p:pic>
        <p:nvPicPr>
          <p:cNvPr id="57" name="~PP4018.WAV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Snagit_PPTE850" descr="PPTE85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~PP11.WAV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3" name="Snagit_PPTC9CB" descr="PPTC9CB.png"/>
          <p:cNvPicPr/>
          <p:nvPr/>
        </p:nvPicPr>
        <p:blipFill>
          <a:blip r:embed="rId1"/>
          <a:stretch/>
        </p:blipFill>
        <p:spPr>
          <a:xfrm>
            <a:off x="-468360" y="0"/>
            <a:ext cx="1029672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~PP1051.WAV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5:09:46Z</dcterms:created>
  <dc:creator>Mary Clare</dc:creator>
  <dc:description/>
  <dc:language>en-US</dc:language>
  <cp:lastModifiedBy>Mary Clare</cp:lastModifiedBy>
  <dcterms:modified xsi:type="dcterms:W3CDTF">2011-10-10T10:59:10Z</dcterms:modified>
  <cp:revision>38</cp:revision>
  <dc:subject/>
  <dc:title>Slide 1</dc:title>
</cp:coreProperties>
</file>