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2EF-2E43-4C8A-BE86-8CD0D7DF501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A95D-2C92-47FE-A2A2-C4AFAA6D670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F7AE-C78F-464E-B6C7-BE06A63A33A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03ED-33E9-4512-B00A-F4D678D5C1A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F30-A5C4-4A43-BCCD-2E0F8A31F73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C26-47C4-40FE-B6BF-2EE4444B0A8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99E4-9CBD-429A-BBAD-4E73886C769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4EA-DE19-4B15-BFE1-B0F5D6ED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202-8682-4244-9025-B79559A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6F9-1F14-48A2-809C-B81AE49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DF6-C893-4D93-BB51-42A66A70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46C-6342-4C3B-A3B0-1E8EB252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DBB-6A79-4576-862F-3B3A12A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F5B-A2E5-49AE-9310-75101B60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376-B0EF-46BB-A7EF-5C2CE3B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4D1-E69D-4862-934D-A2CF5D45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B9F-3773-4FC3-BD8D-5190A69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35F-2050-4E50-822D-9CFC89B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5A6-16CC-4528-9D8B-D725E6CB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EBC-FE75-4DA8-AD35-7B4B8906490A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071880" y="4500720"/>
            <a:ext cx="228600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Click here to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H="1">
            <a:off x="1115280" y="4940640"/>
            <a:ext cx="214380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42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3645000"/>
            <a:ext cx="316872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nter Username and Password here, then click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16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2852640"/>
            <a:ext cx="165600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635280" y="299736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67280" y="2421000"/>
            <a:ext cx="367164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o enter new student clic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276360" y="242100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42920" y="-17136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40000" y="2060640"/>
            <a:ext cx="244800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nter student details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476000" y="242100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19280" y="270828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47640" y="2781360"/>
            <a:ext cx="1152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547280" y="2781360"/>
            <a:ext cx="151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421000"/>
            <a:ext cx="1944720" cy="1608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HE to see the list of Home Ec stat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03280" y="2997360"/>
            <a:ext cx="345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407664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4653000"/>
            <a:ext cx="158400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ick on statements awarde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64000" y="4797360"/>
            <a:ext cx="1872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651280" y="508428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84720" y="5445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5589720"/>
            <a:ext cx="2448000" cy="398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n’t forget to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3640" y="5734080"/>
            <a:ext cx="1368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DON’T FORGET TO KEEP A 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R YOUR REC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15:59Z</dcterms:created>
  <dc:creator>denise</dc:creator>
  <dc:description/>
  <dc:language>en-US</dc:language>
  <cp:lastModifiedBy>mchiggins</cp:lastModifiedBy>
  <dcterms:modified xsi:type="dcterms:W3CDTF">2009-02-24T10:49:07Z</dcterms:modified>
  <cp:revision>27</cp:revision>
  <dc:subject/>
  <dc:title>Slide 1</dc:title>
</cp:coreProperties>
</file>