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4" name="" descr=""/>
          <p:cNvPicPr/>
          <p:nvPr/>
        </p:nvPicPr>
        <p:blipFill>
          <a:blip r:embed="rId2"/>
          <a:srcRect l="85502" t="0" r="0" b="0"/>
          <a:stretch/>
        </p:blipFill>
        <p:spPr>
          <a:xfrm>
            <a:off x="598320" y="457200"/>
            <a:ext cx="468360" cy="6095880"/>
          </a:xfrm>
          <a:prstGeom prst="rect">
            <a:avLst/>
          </a:prstGeom>
          <a:ln w="0">
            <a:noFill/>
          </a:ln>
        </p:spPr>
      </p:pic>
      <p:sp>
        <p:nvSpPr>
          <p:cNvPr id="5" name=""/>
          <p:cNvSpPr/>
          <p:nvPr/>
        </p:nvSpPr>
        <p:spPr>
          <a:xfrm>
            <a:off x="6477120" y="5638680"/>
            <a:ext cx="887400" cy="8384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6553080" y="5257800"/>
            <a:ext cx="1219320" cy="1197000"/>
          </a:xfrm>
          <a:custGeom>
            <a:avLst/>
            <a:gdLst/>
            <a:ahLst/>
            <a:rect l="l" t="t" r="r" b="b"/>
            <a:pathLst>
              <a:path w="290207" h="308432">
                <a:moveTo>
                  <a:pt x="78915" y="308432"/>
                </a:moveTo>
                <a:lnTo>
                  <a:pt x="75923" y="306910"/>
                </a:lnTo>
                <a:lnTo>
                  <a:pt x="73256" y="305733"/>
                </a:lnTo>
                <a:lnTo>
                  <a:pt x="70818" y="304836"/>
                </a:lnTo>
                <a:lnTo>
                  <a:pt x="68521" y="304146"/>
                </a:lnTo>
                <a:lnTo>
                  <a:pt x="66269" y="303603"/>
                </a:lnTo>
                <a:lnTo>
                  <a:pt x="63975" y="303133"/>
                </a:lnTo>
                <a:lnTo>
                  <a:pt x="61545" y="302672"/>
                </a:lnTo>
                <a:lnTo>
                  <a:pt x="58889" y="302151"/>
                </a:lnTo>
                <a:lnTo>
                  <a:pt x="57694" y="300012"/>
                </a:lnTo>
                <a:lnTo>
                  <a:pt x="56613" y="298367"/>
                </a:lnTo>
                <a:lnTo>
                  <a:pt x="55589" y="297125"/>
                </a:lnTo>
                <a:lnTo>
                  <a:pt x="54561" y="296190"/>
                </a:lnTo>
                <a:lnTo>
                  <a:pt x="53469" y="295471"/>
                </a:lnTo>
                <a:lnTo>
                  <a:pt x="52254" y="294872"/>
                </a:lnTo>
                <a:lnTo>
                  <a:pt x="50855" y="294302"/>
                </a:lnTo>
                <a:lnTo>
                  <a:pt x="49216" y="293664"/>
                </a:lnTo>
                <a:lnTo>
                  <a:pt x="48686" y="292332"/>
                </a:lnTo>
                <a:lnTo>
                  <a:pt x="48111" y="290323"/>
                </a:lnTo>
                <a:lnTo>
                  <a:pt x="47472" y="287758"/>
                </a:lnTo>
                <a:lnTo>
                  <a:pt x="46755" y="284752"/>
                </a:lnTo>
                <a:lnTo>
                  <a:pt x="45939" y="281431"/>
                </a:lnTo>
                <a:lnTo>
                  <a:pt x="45015" y="277911"/>
                </a:lnTo>
                <a:lnTo>
                  <a:pt x="43961" y="274310"/>
                </a:lnTo>
                <a:lnTo>
                  <a:pt x="42767" y="270748"/>
                </a:lnTo>
                <a:lnTo>
                  <a:pt x="38268" y="262310"/>
                </a:lnTo>
                <a:lnTo>
                  <a:pt x="34792" y="255751"/>
                </a:lnTo>
                <a:lnTo>
                  <a:pt x="32082" y="250564"/>
                </a:lnTo>
                <a:lnTo>
                  <a:pt x="29890" y="246241"/>
                </a:lnTo>
                <a:lnTo>
                  <a:pt x="27957" y="242279"/>
                </a:lnTo>
                <a:lnTo>
                  <a:pt x="26036" y="238166"/>
                </a:lnTo>
                <a:lnTo>
                  <a:pt x="23872" y="233397"/>
                </a:lnTo>
                <a:lnTo>
                  <a:pt x="21214" y="227463"/>
                </a:lnTo>
                <a:lnTo>
                  <a:pt x="19293" y="225972"/>
                </a:lnTo>
                <a:lnTo>
                  <a:pt x="16867" y="222660"/>
                </a:lnTo>
                <a:lnTo>
                  <a:pt x="14158" y="218127"/>
                </a:lnTo>
                <a:lnTo>
                  <a:pt x="11391" y="212971"/>
                </a:lnTo>
                <a:lnTo>
                  <a:pt x="8790" y="207792"/>
                </a:lnTo>
                <a:lnTo>
                  <a:pt x="6583" y="203187"/>
                </a:lnTo>
                <a:lnTo>
                  <a:pt x="4990" y="199756"/>
                </a:lnTo>
                <a:lnTo>
                  <a:pt x="4242" y="198096"/>
                </a:lnTo>
                <a:lnTo>
                  <a:pt x="3924" y="198034"/>
                </a:lnTo>
                <a:lnTo>
                  <a:pt x="3606" y="197973"/>
                </a:lnTo>
                <a:lnTo>
                  <a:pt x="3288" y="197916"/>
                </a:lnTo>
                <a:lnTo>
                  <a:pt x="2969" y="197864"/>
                </a:lnTo>
                <a:lnTo>
                  <a:pt x="2651" y="197821"/>
                </a:lnTo>
                <a:lnTo>
                  <a:pt x="2333" y="197787"/>
                </a:lnTo>
                <a:lnTo>
                  <a:pt x="2015" y="197766"/>
                </a:lnTo>
                <a:lnTo>
                  <a:pt x="1697" y="197757"/>
                </a:lnTo>
                <a:lnTo>
                  <a:pt x="1704" y="197312"/>
                </a:lnTo>
                <a:lnTo>
                  <a:pt x="1725" y="196869"/>
                </a:lnTo>
                <a:lnTo>
                  <a:pt x="1758" y="196431"/>
                </a:lnTo>
                <a:lnTo>
                  <a:pt x="1802" y="195997"/>
                </a:lnTo>
                <a:lnTo>
                  <a:pt x="1853" y="195572"/>
                </a:lnTo>
                <a:lnTo>
                  <a:pt x="1910" y="195156"/>
                </a:lnTo>
                <a:lnTo>
                  <a:pt x="1971" y="194753"/>
                </a:lnTo>
                <a:lnTo>
                  <a:pt x="2036" y="194361"/>
                </a:lnTo>
                <a:lnTo>
                  <a:pt x="1781" y="194235"/>
                </a:lnTo>
                <a:lnTo>
                  <a:pt x="1526" y="194110"/>
                </a:lnTo>
                <a:lnTo>
                  <a:pt x="1271" y="193990"/>
                </a:lnTo>
                <a:lnTo>
                  <a:pt x="1017" y="193874"/>
                </a:lnTo>
                <a:lnTo>
                  <a:pt x="762" y="193768"/>
                </a:lnTo>
                <a:lnTo>
                  <a:pt x="507" y="193670"/>
                </a:lnTo>
                <a:lnTo>
                  <a:pt x="252" y="193586"/>
                </a:lnTo>
                <a:lnTo>
                  <a:pt x="0" y="193513"/>
                </a:lnTo>
                <a:lnTo>
                  <a:pt x="70" y="192750"/>
                </a:lnTo>
                <a:lnTo>
                  <a:pt x="155" y="191989"/>
                </a:lnTo>
                <a:lnTo>
                  <a:pt x="251" y="191232"/>
                </a:lnTo>
                <a:lnTo>
                  <a:pt x="359" y="190480"/>
                </a:lnTo>
                <a:lnTo>
                  <a:pt x="473" y="189737"/>
                </a:lnTo>
                <a:lnTo>
                  <a:pt x="595" y="189003"/>
                </a:lnTo>
                <a:lnTo>
                  <a:pt x="720" y="188281"/>
                </a:lnTo>
                <a:lnTo>
                  <a:pt x="848" y="187572"/>
                </a:lnTo>
                <a:lnTo>
                  <a:pt x="1703" y="187123"/>
                </a:lnTo>
                <a:lnTo>
                  <a:pt x="2439" y="186769"/>
                </a:lnTo>
                <a:lnTo>
                  <a:pt x="3173" y="186485"/>
                </a:lnTo>
                <a:lnTo>
                  <a:pt x="4030" y="186236"/>
                </a:lnTo>
                <a:lnTo>
                  <a:pt x="5122" y="185997"/>
                </a:lnTo>
                <a:lnTo>
                  <a:pt x="6575" y="185735"/>
                </a:lnTo>
                <a:lnTo>
                  <a:pt x="8504" y="185421"/>
                </a:lnTo>
                <a:lnTo>
                  <a:pt x="11031" y="185025"/>
                </a:lnTo>
                <a:lnTo>
                  <a:pt x="11031" y="185537"/>
                </a:lnTo>
                <a:lnTo>
                  <a:pt x="11031" y="186048"/>
                </a:lnTo>
                <a:lnTo>
                  <a:pt x="11031" y="186564"/>
                </a:lnTo>
                <a:lnTo>
                  <a:pt x="11031" y="187085"/>
                </a:lnTo>
                <a:lnTo>
                  <a:pt x="11031" y="187615"/>
                </a:lnTo>
                <a:lnTo>
                  <a:pt x="11031" y="188153"/>
                </a:lnTo>
                <a:lnTo>
                  <a:pt x="11031" y="188706"/>
                </a:lnTo>
                <a:lnTo>
                  <a:pt x="11031" y="189269"/>
                </a:lnTo>
                <a:lnTo>
                  <a:pt x="11702" y="188985"/>
                </a:lnTo>
                <a:lnTo>
                  <a:pt x="12215" y="188739"/>
                </a:lnTo>
                <a:lnTo>
                  <a:pt x="12595" y="188495"/>
                </a:lnTo>
                <a:lnTo>
                  <a:pt x="12876" y="188208"/>
                </a:lnTo>
                <a:lnTo>
                  <a:pt x="13082" y="187844"/>
                </a:lnTo>
                <a:lnTo>
                  <a:pt x="13249" y="187360"/>
                </a:lnTo>
                <a:lnTo>
                  <a:pt x="13403" y="186717"/>
                </a:lnTo>
                <a:lnTo>
                  <a:pt x="13576" y="185874"/>
                </a:lnTo>
                <a:lnTo>
                  <a:pt x="14903" y="185854"/>
                </a:lnTo>
                <a:lnTo>
                  <a:pt x="15720" y="185164"/>
                </a:lnTo>
                <a:lnTo>
                  <a:pt x="16233" y="184013"/>
                </a:lnTo>
                <a:lnTo>
                  <a:pt x="16659" y="182608"/>
                </a:lnTo>
                <a:lnTo>
                  <a:pt x="17201" y="181156"/>
                </a:lnTo>
                <a:lnTo>
                  <a:pt x="18073" y="179861"/>
                </a:lnTo>
                <a:lnTo>
                  <a:pt x="19486" y="178932"/>
                </a:lnTo>
                <a:lnTo>
                  <a:pt x="21651" y="178576"/>
                </a:lnTo>
                <a:lnTo>
                  <a:pt x="21969" y="179222"/>
                </a:lnTo>
                <a:lnTo>
                  <a:pt x="22287" y="179880"/>
                </a:lnTo>
                <a:lnTo>
                  <a:pt x="22605" y="180550"/>
                </a:lnTo>
                <a:lnTo>
                  <a:pt x="22924" y="181230"/>
                </a:lnTo>
                <a:lnTo>
                  <a:pt x="23242" y="181918"/>
                </a:lnTo>
                <a:lnTo>
                  <a:pt x="23560" y="182612"/>
                </a:lnTo>
                <a:lnTo>
                  <a:pt x="23878" y="183310"/>
                </a:lnTo>
                <a:lnTo>
                  <a:pt x="24196" y="184008"/>
                </a:lnTo>
                <a:lnTo>
                  <a:pt x="24902" y="184082"/>
                </a:lnTo>
                <a:lnTo>
                  <a:pt x="25625" y="184166"/>
                </a:lnTo>
                <a:lnTo>
                  <a:pt x="26357" y="184264"/>
                </a:lnTo>
                <a:lnTo>
                  <a:pt x="27102" y="184370"/>
                </a:lnTo>
                <a:lnTo>
                  <a:pt x="27852" y="184486"/>
                </a:lnTo>
                <a:lnTo>
                  <a:pt x="28610" y="184606"/>
                </a:lnTo>
                <a:lnTo>
                  <a:pt x="29372" y="184731"/>
                </a:lnTo>
                <a:lnTo>
                  <a:pt x="30136" y="184857"/>
                </a:lnTo>
                <a:lnTo>
                  <a:pt x="30143" y="184605"/>
                </a:lnTo>
                <a:lnTo>
                  <a:pt x="30164" y="184350"/>
                </a:lnTo>
                <a:lnTo>
                  <a:pt x="30197" y="184095"/>
                </a:lnTo>
                <a:lnTo>
                  <a:pt x="30242" y="183839"/>
                </a:lnTo>
                <a:lnTo>
                  <a:pt x="30293" y="183585"/>
                </a:lnTo>
                <a:lnTo>
                  <a:pt x="30350" y="183330"/>
                </a:lnTo>
                <a:lnTo>
                  <a:pt x="30411" y="183075"/>
                </a:lnTo>
                <a:lnTo>
                  <a:pt x="30476" y="182820"/>
                </a:lnTo>
                <a:lnTo>
                  <a:pt x="29973" y="182695"/>
                </a:lnTo>
                <a:lnTo>
                  <a:pt x="29486" y="182570"/>
                </a:lnTo>
                <a:lnTo>
                  <a:pt x="29008" y="182449"/>
                </a:lnTo>
                <a:lnTo>
                  <a:pt x="28544" y="182333"/>
                </a:lnTo>
                <a:lnTo>
                  <a:pt x="28085" y="182227"/>
                </a:lnTo>
                <a:lnTo>
                  <a:pt x="27634" y="182129"/>
                </a:lnTo>
                <a:lnTo>
                  <a:pt x="27187" y="182044"/>
                </a:lnTo>
                <a:lnTo>
                  <a:pt x="26742" y="181971"/>
                </a:lnTo>
                <a:lnTo>
                  <a:pt x="26868" y="181653"/>
                </a:lnTo>
                <a:lnTo>
                  <a:pt x="26997" y="181335"/>
                </a:lnTo>
                <a:lnTo>
                  <a:pt x="27131" y="181016"/>
                </a:lnTo>
                <a:lnTo>
                  <a:pt x="27272" y="180698"/>
                </a:lnTo>
                <a:lnTo>
                  <a:pt x="27418" y="180380"/>
                </a:lnTo>
                <a:lnTo>
                  <a:pt x="27576" y="180062"/>
                </a:lnTo>
                <a:lnTo>
                  <a:pt x="27745" y="179744"/>
                </a:lnTo>
                <a:lnTo>
                  <a:pt x="27930" y="179425"/>
                </a:lnTo>
                <a:lnTo>
                  <a:pt x="29514" y="179260"/>
                </a:lnTo>
                <a:lnTo>
                  <a:pt x="30808" y="179145"/>
                </a:lnTo>
                <a:lnTo>
                  <a:pt x="31968" y="179086"/>
                </a:lnTo>
                <a:lnTo>
                  <a:pt x="33148" y="179086"/>
                </a:lnTo>
                <a:lnTo>
                  <a:pt x="34501" y="179151"/>
                </a:lnTo>
                <a:lnTo>
                  <a:pt x="36187" y="179282"/>
                </a:lnTo>
                <a:lnTo>
                  <a:pt x="38356" y="179486"/>
                </a:lnTo>
                <a:lnTo>
                  <a:pt x="41167" y="179765"/>
                </a:lnTo>
                <a:lnTo>
                  <a:pt x="41906" y="178853"/>
                </a:lnTo>
                <a:lnTo>
                  <a:pt x="42415" y="178132"/>
                </a:lnTo>
                <a:lnTo>
                  <a:pt x="42792" y="177570"/>
                </a:lnTo>
                <a:lnTo>
                  <a:pt x="43139" y="177134"/>
                </a:lnTo>
                <a:lnTo>
                  <a:pt x="43556" y="176796"/>
                </a:lnTo>
                <a:lnTo>
                  <a:pt x="44148" y="176519"/>
                </a:lnTo>
                <a:lnTo>
                  <a:pt x="45015" y="176275"/>
                </a:lnTo>
                <a:lnTo>
                  <a:pt x="46258" y="176030"/>
                </a:lnTo>
                <a:lnTo>
                  <a:pt x="46258" y="176223"/>
                </a:lnTo>
                <a:lnTo>
                  <a:pt x="46258" y="176416"/>
                </a:lnTo>
                <a:lnTo>
                  <a:pt x="46258" y="176615"/>
                </a:lnTo>
                <a:lnTo>
                  <a:pt x="46258" y="176817"/>
                </a:lnTo>
                <a:lnTo>
                  <a:pt x="46258" y="177029"/>
                </a:lnTo>
                <a:lnTo>
                  <a:pt x="46258" y="177249"/>
                </a:lnTo>
                <a:lnTo>
                  <a:pt x="46258" y="177482"/>
                </a:lnTo>
                <a:lnTo>
                  <a:pt x="46258" y="177727"/>
                </a:lnTo>
                <a:lnTo>
                  <a:pt x="47374" y="178159"/>
                </a:lnTo>
                <a:lnTo>
                  <a:pt x="48652" y="179295"/>
                </a:lnTo>
                <a:lnTo>
                  <a:pt x="50042" y="180906"/>
                </a:lnTo>
                <a:lnTo>
                  <a:pt x="51492" y="182756"/>
                </a:lnTo>
                <a:lnTo>
                  <a:pt x="52948" y="184616"/>
                </a:lnTo>
                <a:lnTo>
                  <a:pt x="54362" y="186249"/>
                </a:lnTo>
                <a:lnTo>
                  <a:pt x="55680" y="187426"/>
                </a:lnTo>
                <a:lnTo>
                  <a:pt x="56853" y="187911"/>
                </a:lnTo>
                <a:lnTo>
                  <a:pt x="57171" y="187467"/>
                </a:lnTo>
                <a:lnTo>
                  <a:pt x="57490" y="187024"/>
                </a:lnTo>
                <a:lnTo>
                  <a:pt x="57808" y="186585"/>
                </a:lnTo>
                <a:lnTo>
                  <a:pt x="58126" y="186151"/>
                </a:lnTo>
                <a:lnTo>
                  <a:pt x="58444" y="185727"/>
                </a:lnTo>
                <a:lnTo>
                  <a:pt x="58762" y="185310"/>
                </a:lnTo>
                <a:lnTo>
                  <a:pt x="59080" y="184907"/>
                </a:lnTo>
                <a:lnTo>
                  <a:pt x="59398" y="184516"/>
                </a:lnTo>
                <a:lnTo>
                  <a:pt x="60035" y="184454"/>
                </a:lnTo>
                <a:lnTo>
                  <a:pt x="60671" y="184393"/>
                </a:lnTo>
                <a:lnTo>
                  <a:pt x="61307" y="184336"/>
                </a:lnTo>
                <a:lnTo>
                  <a:pt x="61944" y="184284"/>
                </a:lnTo>
                <a:lnTo>
                  <a:pt x="62580" y="184241"/>
                </a:lnTo>
                <a:lnTo>
                  <a:pt x="63216" y="184207"/>
                </a:lnTo>
                <a:lnTo>
                  <a:pt x="63852" y="184186"/>
                </a:lnTo>
                <a:lnTo>
                  <a:pt x="64490" y="184177"/>
                </a:lnTo>
                <a:lnTo>
                  <a:pt x="64490" y="184568"/>
                </a:lnTo>
                <a:lnTo>
                  <a:pt x="64490" y="184971"/>
                </a:lnTo>
                <a:lnTo>
                  <a:pt x="64490" y="185387"/>
                </a:lnTo>
                <a:lnTo>
                  <a:pt x="64490" y="185812"/>
                </a:lnTo>
                <a:lnTo>
                  <a:pt x="64490" y="186246"/>
                </a:lnTo>
                <a:lnTo>
                  <a:pt x="64490" y="186684"/>
                </a:lnTo>
                <a:lnTo>
                  <a:pt x="64490" y="187128"/>
                </a:lnTo>
                <a:lnTo>
                  <a:pt x="64490" y="187572"/>
                </a:lnTo>
                <a:lnTo>
                  <a:pt x="67313" y="189461"/>
                </a:lnTo>
                <a:lnTo>
                  <a:pt x="69360" y="193090"/>
                </a:lnTo>
                <a:lnTo>
                  <a:pt x="70917" y="197898"/>
                </a:lnTo>
                <a:lnTo>
                  <a:pt x="72274" y="203316"/>
                </a:lnTo>
                <a:lnTo>
                  <a:pt x="73718" y="208785"/>
                </a:lnTo>
                <a:lnTo>
                  <a:pt x="75539" y="213735"/>
                </a:lnTo>
                <a:lnTo>
                  <a:pt x="78023" y="217604"/>
                </a:lnTo>
                <a:lnTo>
                  <a:pt x="81462" y="219824"/>
                </a:lnTo>
                <a:lnTo>
                  <a:pt x="81334" y="219260"/>
                </a:lnTo>
                <a:lnTo>
                  <a:pt x="81208" y="218708"/>
                </a:lnTo>
                <a:lnTo>
                  <a:pt x="81086" y="218169"/>
                </a:lnTo>
                <a:lnTo>
                  <a:pt x="80972" y="217639"/>
                </a:lnTo>
                <a:lnTo>
                  <a:pt x="80864" y="217119"/>
                </a:lnTo>
                <a:lnTo>
                  <a:pt x="80768" y="216602"/>
                </a:lnTo>
                <a:lnTo>
                  <a:pt x="80683" y="216091"/>
                </a:lnTo>
                <a:lnTo>
                  <a:pt x="80613" y="215580"/>
                </a:lnTo>
                <a:lnTo>
                  <a:pt x="80803" y="215580"/>
                </a:lnTo>
                <a:lnTo>
                  <a:pt x="80996" y="215580"/>
                </a:lnTo>
                <a:lnTo>
                  <a:pt x="81192" y="215580"/>
                </a:lnTo>
                <a:lnTo>
                  <a:pt x="81397" y="215580"/>
                </a:lnTo>
                <a:lnTo>
                  <a:pt x="81607" y="215580"/>
                </a:lnTo>
                <a:lnTo>
                  <a:pt x="81829" y="215580"/>
                </a:lnTo>
                <a:lnTo>
                  <a:pt x="82062" y="215580"/>
                </a:lnTo>
                <a:lnTo>
                  <a:pt x="82310" y="215580"/>
                </a:lnTo>
                <a:lnTo>
                  <a:pt x="82380" y="216091"/>
                </a:lnTo>
                <a:lnTo>
                  <a:pt x="82466" y="216602"/>
                </a:lnTo>
                <a:lnTo>
                  <a:pt x="82562" y="217119"/>
                </a:lnTo>
                <a:lnTo>
                  <a:pt x="82670" y="217639"/>
                </a:lnTo>
                <a:lnTo>
                  <a:pt x="82784" y="218169"/>
                </a:lnTo>
                <a:lnTo>
                  <a:pt x="82905" y="218708"/>
                </a:lnTo>
                <a:lnTo>
                  <a:pt x="83030" y="219260"/>
                </a:lnTo>
                <a:lnTo>
                  <a:pt x="83158" y="219824"/>
                </a:lnTo>
                <a:lnTo>
                  <a:pt x="82840" y="219824"/>
                </a:lnTo>
                <a:lnTo>
                  <a:pt x="82522" y="219824"/>
                </a:lnTo>
                <a:lnTo>
                  <a:pt x="82204" y="219824"/>
                </a:lnTo>
                <a:lnTo>
                  <a:pt x="81886" y="219824"/>
                </a:lnTo>
                <a:lnTo>
                  <a:pt x="81568" y="219824"/>
                </a:lnTo>
                <a:lnTo>
                  <a:pt x="81249" y="219824"/>
                </a:lnTo>
                <a:lnTo>
                  <a:pt x="80931" y="219824"/>
                </a:lnTo>
                <a:lnTo>
                  <a:pt x="80613" y="219824"/>
                </a:lnTo>
                <a:lnTo>
                  <a:pt x="80726" y="220947"/>
                </a:lnTo>
                <a:lnTo>
                  <a:pt x="80829" y="221806"/>
                </a:lnTo>
                <a:lnTo>
                  <a:pt x="80939" y="222454"/>
                </a:lnTo>
                <a:lnTo>
                  <a:pt x="81079" y="222944"/>
                </a:lnTo>
                <a:lnTo>
                  <a:pt x="81264" y="223331"/>
                </a:lnTo>
                <a:lnTo>
                  <a:pt x="81519" y="223668"/>
                </a:lnTo>
                <a:lnTo>
                  <a:pt x="81860" y="224009"/>
                </a:lnTo>
                <a:lnTo>
                  <a:pt x="82310" y="224407"/>
                </a:lnTo>
                <a:lnTo>
                  <a:pt x="83641" y="223957"/>
                </a:lnTo>
                <a:lnTo>
                  <a:pt x="84947" y="223063"/>
                </a:lnTo>
                <a:lnTo>
                  <a:pt x="86201" y="221839"/>
                </a:lnTo>
                <a:lnTo>
                  <a:pt x="87379" y="220397"/>
                </a:lnTo>
                <a:lnTo>
                  <a:pt x="88453" y="218853"/>
                </a:lnTo>
                <a:lnTo>
                  <a:pt x="89397" y="217318"/>
                </a:lnTo>
                <a:lnTo>
                  <a:pt x="90186" y="215907"/>
                </a:lnTo>
                <a:lnTo>
                  <a:pt x="90796" y="214731"/>
                </a:lnTo>
                <a:lnTo>
                  <a:pt x="90548" y="214731"/>
                </a:lnTo>
                <a:lnTo>
                  <a:pt x="90315" y="214731"/>
                </a:lnTo>
                <a:lnTo>
                  <a:pt x="90093" y="214731"/>
                </a:lnTo>
                <a:lnTo>
                  <a:pt x="89882" y="214731"/>
                </a:lnTo>
                <a:lnTo>
                  <a:pt x="89678" y="214731"/>
                </a:lnTo>
                <a:lnTo>
                  <a:pt x="89481" y="214731"/>
                </a:lnTo>
                <a:lnTo>
                  <a:pt x="89288" y="214731"/>
                </a:lnTo>
                <a:lnTo>
                  <a:pt x="89098" y="214731"/>
                </a:lnTo>
                <a:lnTo>
                  <a:pt x="89726" y="212954"/>
                </a:lnTo>
                <a:lnTo>
                  <a:pt x="90663" y="211072"/>
                </a:lnTo>
                <a:lnTo>
                  <a:pt x="91812" y="209110"/>
                </a:lnTo>
                <a:lnTo>
                  <a:pt x="93086" y="207093"/>
                </a:lnTo>
                <a:lnTo>
                  <a:pt x="94391" y="205045"/>
                </a:lnTo>
                <a:lnTo>
                  <a:pt x="95637" y="202988"/>
                </a:lnTo>
                <a:lnTo>
                  <a:pt x="96731" y="200947"/>
                </a:lnTo>
                <a:lnTo>
                  <a:pt x="97584" y="198945"/>
                </a:lnTo>
                <a:lnTo>
                  <a:pt x="98220" y="198699"/>
                </a:lnTo>
                <a:lnTo>
                  <a:pt x="98857" y="198466"/>
                </a:lnTo>
                <a:lnTo>
                  <a:pt x="99493" y="198246"/>
                </a:lnTo>
                <a:lnTo>
                  <a:pt x="100129" y="198034"/>
                </a:lnTo>
                <a:lnTo>
                  <a:pt x="100765" y="197832"/>
                </a:lnTo>
                <a:lnTo>
                  <a:pt x="101402" y="197634"/>
                </a:lnTo>
                <a:lnTo>
                  <a:pt x="102038" y="197441"/>
                </a:lnTo>
                <a:lnTo>
                  <a:pt x="102675" y="197247"/>
                </a:lnTo>
                <a:lnTo>
                  <a:pt x="102865" y="196111"/>
                </a:lnTo>
                <a:lnTo>
                  <a:pt x="103059" y="194986"/>
                </a:lnTo>
                <a:lnTo>
                  <a:pt x="103256" y="193874"/>
                </a:lnTo>
                <a:lnTo>
                  <a:pt x="103460" y="192770"/>
                </a:lnTo>
                <a:lnTo>
                  <a:pt x="103670" y="191678"/>
                </a:lnTo>
                <a:lnTo>
                  <a:pt x="103892" y="190588"/>
                </a:lnTo>
                <a:lnTo>
                  <a:pt x="104124" y="189504"/>
                </a:lnTo>
                <a:lnTo>
                  <a:pt x="104372" y="188420"/>
                </a:lnTo>
                <a:lnTo>
                  <a:pt x="104760" y="188429"/>
                </a:lnTo>
                <a:lnTo>
                  <a:pt x="105165" y="188450"/>
                </a:lnTo>
                <a:lnTo>
                  <a:pt x="105579" y="188484"/>
                </a:lnTo>
                <a:lnTo>
                  <a:pt x="106005" y="188528"/>
                </a:lnTo>
                <a:lnTo>
                  <a:pt x="106437" y="188580"/>
                </a:lnTo>
                <a:lnTo>
                  <a:pt x="106877" y="188637"/>
                </a:lnTo>
                <a:lnTo>
                  <a:pt x="107321" y="188698"/>
                </a:lnTo>
                <a:lnTo>
                  <a:pt x="107767" y="188760"/>
                </a:lnTo>
                <a:lnTo>
                  <a:pt x="108705" y="187378"/>
                </a:lnTo>
                <a:lnTo>
                  <a:pt x="109490" y="186127"/>
                </a:lnTo>
                <a:lnTo>
                  <a:pt x="110122" y="184969"/>
                </a:lnTo>
                <a:lnTo>
                  <a:pt x="110609" y="183858"/>
                </a:lnTo>
                <a:lnTo>
                  <a:pt x="110950" y="182759"/>
                </a:lnTo>
                <a:lnTo>
                  <a:pt x="111154" y="181623"/>
                </a:lnTo>
                <a:lnTo>
                  <a:pt x="111223" y="180413"/>
                </a:lnTo>
                <a:lnTo>
                  <a:pt x="111161" y="179084"/>
                </a:lnTo>
                <a:lnTo>
                  <a:pt x="111351" y="179084"/>
                </a:lnTo>
                <a:lnTo>
                  <a:pt x="111544" y="179084"/>
                </a:lnTo>
                <a:lnTo>
                  <a:pt x="111741" y="179084"/>
                </a:lnTo>
                <a:lnTo>
                  <a:pt x="111945" y="179084"/>
                </a:lnTo>
                <a:lnTo>
                  <a:pt x="112155" y="179084"/>
                </a:lnTo>
                <a:lnTo>
                  <a:pt x="112377" y="179084"/>
                </a:lnTo>
                <a:lnTo>
                  <a:pt x="112610" y="179084"/>
                </a:lnTo>
                <a:lnTo>
                  <a:pt x="112858" y="179084"/>
                </a:lnTo>
                <a:lnTo>
                  <a:pt x="112858" y="178640"/>
                </a:lnTo>
                <a:lnTo>
                  <a:pt x="112858" y="178197"/>
                </a:lnTo>
                <a:lnTo>
                  <a:pt x="112858" y="177758"/>
                </a:lnTo>
                <a:lnTo>
                  <a:pt x="112858" y="177324"/>
                </a:lnTo>
                <a:lnTo>
                  <a:pt x="112858" y="176900"/>
                </a:lnTo>
                <a:lnTo>
                  <a:pt x="112858" y="176483"/>
                </a:lnTo>
                <a:lnTo>
                  <a:pt x="112858" y="176080"/>
                </a:lnTo>
                <a:lnTo>
                  <a:pt x="112858" y="175689"/>
                </a:lnTo>
                <a:lnTo>
                  <a:pt x="115363" y="174388"/>
                </a:lnTo>
                <a:lnTo>
                  <a:pt x="117187" y="171897"/>
                </a:lnTo>
                <a:lnTo>
                  <a:pt x="118570" y="168619"/>
                </a:lnTo>
                <a:lnTo>
                  <a:pt x="119752" y="164954"/>
                </a:lnTo>
                <a:lnTo>
                  <a:pt x="120973" y="161305"/>
                </a:lnTo>
                <a:lnTo>
                  <a:pt x="122475" y="158074"/>
                </a:lnTo>
                <a:lnTo>
                  <a:pt x="124497" y="155662"/>
                </a:lnTo>
                <a:lnTo>
                  <a:pt x="127284" y="154471"/>
                </a:lnTo>
                <a:lnTo>
                  <a:pt x="127410" y="153907"/>
                </a:lnTo>
                <a:lnTo>
                  <a:pt x="127539" y="153355"/>
                </a:lnTo>
                <a:lnTo>
                  <a:pt x="127672" y="152817"/>
                </a:lnTo>
                <a:lnTo>
                  <a:pt x="127813" y="152286"/>
                </a:lnTo>
                <a:lnTo>
                  <a:pt x="127959" y="151766"/>
                </a:lnTo>
                <a:lnTo>
                  <a:pt x="128117" y="151250"/>
                </a:lnTo>
                <a:lnTo>
                  <a:pt x="128286" y="150738"/>
                </a:lnTo>
                <a:lnTo>
                  <a:pt x="128471" y="150227"/>
                </a:lnTo>
                <a:lnTo>
                  <a:pt x="128724" y="150102"/>
                </a:lnTo>
                <a:lnTo>
                  <a:pt x="128981" y="149977"/>
                </a:lnTo>
                <a:lnTo>
                  <a:pt x="129243" y="149857"/>
                </a:lnTo>
                <a:lnTo>
                  <a:pt x="129510" y="149740"/>
                </a:lnTo>
                <a:lnTo>
                  <a:pt x="129784" y="149634"/>
                </a:lnTo>
                <a:lnTo>
                  <a:pt x="130069" y="149536"/>
                </a:lnTo>
                <a:lnTo>
                  <a:pt x="130366" y="149451"/>
                </a:lnTo>
                <a:lnTo>
                  <a:pt x="130678" y="149378"/>
                </a:lnTo>
                <a:lnTo>
                  <a:pt x="130678" y="149697"/>
                </a:lnTo>
                <a:lnTo>
                  <a:pt x="130678" y="150016"/>
                </a:lnTo>
                <a:lnTo>
                  <a:pt x="130678" y="150334"/>
                </a:lnTo>
                <a:lnTo>
                  <a:pt x="130678" y="150652"/>
                </a:lnTo>
                <a:lnTo>
                  <a:pt x="130678" y="150970"/>
                </a:lnTo>
                <a:lnTo>
                  <a:pt x="130678" y="151289"/>
                </a:lnTo>
                <a:lnTo>
                  <a:pt x="130678" y="151607"/>
                </a:lnTo>
                <a:lnTo>
                  <a:pt x="130678" y="151925"/>
                </a:lnTo>
                <a:lnTo>
                  <a:pt x="131808" y="151479"/>
                </a:lnTo>
                <a:lnTo>
                  <a:pt x="132719" y="151148"/>
                </a:lnTo>
                <a:lnTo>
                  <a:pt x="133511" y="150926"/>
                </a:lnTo>
                <a:lnTo>
                  <a:pt x="134284" y="150800"/>
                </a:lnTo>
                <a:lnTo>
                  <a:pt x="135135" y="150763"/>
                </a:lnTo>
                <a:lnTo>
                  <a:pt x="136166" y="150803"/>
                </a:lnTo>
                <a:lnTo>
                  <a:pt x="137474" y="150911"/>
                </a:lnTo>
                <a:lnTo>
                  <a:pt x="139163" y="151075"/>
                </a:lnTo>
                <a:lnTo>
                  <a:pt x="139551" y="149995"/>
                </a:lnTo>
                <a:lnTo>
                  <a:pt x="139956" y="148915"/>
                </a:lnTo>
                <a:lnTo>
                  <a:pt x="140370" y="147840"/>
                </a:lnTo>
                <a:lnTo>
                  <a:pt x="140796" y="146770"/>
                </a:lnTo>
                <a:lnTo>
                  <a:pt x="141228" y="145709"/>
                </a:lnTo>
                <a:lnTo>
                  <a:pt x="141668" y="144656"/>
                </a:lnTo>
                <a:lnTo>
                  <a:pt x="142112" y="143616"/>
                </a:lnTo>
                <a:lnTo>
                  <a:pt x="142558" y="142589"/>
                </a:lnTo>
                <a:lnTo>
                  <a:pt x="142310" y="142589"/>
                </a:lnTo>
                <a:lnTo>
                  <a:pt x="142077" y="142589"/>
                </a:lnTo>
                <a:lnTo>
                  <a:pt x="141854" y="142589"/>
                </a:lnTo>
                <a:lnTo>
                  <a:pt x="141644" y="142589"/>
                </a:lnTo>
                <a:lnTo>
                  <a:pt x="141440" y="142589"/>
                </a:lnTo>
                <a:lnTo>
                  <a:pt x="141244" y="142589"/>
                </a:lnTo>
                <a:lnTo>
                  <a:pt x="141051" y="142589"/>
                </a:lnTo>
                <a:lnTo>
                  <a:pt x="140861" y="142589"/>
                </a:lnTo>
                <a:lnTo>
                  <a:pt x="141611" y="140062"/>
                </a:lnTo>
                <a:lnTo>
                  <a:pt x="142392" y="137613"/>
                </a:lnTo>
                <a:lnTo>
                  <a:pt x="143275" y="135310"/>
                </a:lnTo>
                <a:lnTo>
                  <a:pt x="144339" y="133210"/>
                </a:lnTo>
                <a:lnTo>
                  <a:pt x="145655" y="131384"/>
                </a:lnTo>
                <a:lnTo>
                  <a:pt x="147304" y="129891"/>
                </a:lnTo>
                <a:lnTo>
                  <a:pt x="149357" y="128795"/>
                </a:lnTo>
                <a:lnTo>
                  <a:pt x="151892" y="128160"/>
                </a:lnTo>
                <a:lnTo>
                  <a:pt x="152282" y="126190"/>
                </a:lnTo>
                <a:lnTo>
                  <a:pt x="152577" y="124647"/>
                </a:lnTo>
                <a:lnTo>
                  <a:pt x="152788" y="123403"/>
                </a:lnTo>
                <a:lnTo>
                  <a:pt x="152931" y="122326"/>
                </a:lnTo>
                <a:lnTo>
                  <a:pt x="153016" y="121290"/>
                </a:lnTo>
                <a:lnTo>
                  <a:pt x="153061" y="120165"/>
                </a:lnTo>
                <a:lnTo>
                  <a:pt x="153077" y="118821"/>
                </a:lnTo>
                <a:lnTo>
                  <a:pt x="153080" y="117127"/>
                </a:lnTo>
                <a:lnTo>
                  <a:pt x="153333" y="117001"/>
                </a:lnTo>
                <a:lnTo>
                  <a:pt x="153590" y="116875"/>
                </a:lnTo>
                <a:lnTo>
                  <a:pt x="153851" y="116755"/>
                </a:lnTo>
                <a:lnTo>
                  <a:pt x="154118" y="116639"/>
                </a:lnTo>
                <a:lnTo>
                  <a:pt x="154392" y="116533"/>
                </a:lnTo>
                <a:lnTo>
                  <a:pt x="154677" y="116435"/>
                </a:lnTo>
                <a:lnTo>
                  <a:pt x="154974" y="116350"/>
                </a:lnTo>
                <a:lnTo>
                  <a:pt x="155286" y="116277"/>
                </a:lnTo>
                <a:lnTo>
                  <a:pt x="155286" y="115959"/>
                </a:lnTo>
                <a:lnTo>
                  <a:pt x="155286" y="115641"/>
                </a:lnTo>
                <a:lnTo>
                  <a:pt x="155286" y="115322"/>
                </a:lnTo>
                <a:lnTo>
                  <a:pt x="155286" y="115004"/>
                </a:lnTo>
                <a:lnTo>
                  <a:pt x="155286" y="114686"/>
                </a:lnTo>
                <a:lnTo>
                  <a:pt x="155286" y="114368"/>
                </a:lnTo>
                <a:lnTo>
                  <a:pt x="155286" y="114050"/>
                </a:lnTo>
                <a:lnTo>
                  <a:pt x="155286" y="113731"/>
                </a:lnTo>
                <a:lnTo>
                  <a:pt x="155476" y="113731"/>
                </a:lnTo>
                <a:lnTo>
                  <a:pt x="155669" y="113731"/>
                </a:lnTo>
                <a:lnTo>
                  <a:pt x="155866" y="113731"/>
                </a:lnTo>
                <a:lnTo>
                  <a:pt x="156070" y="113731"/>
                </a:lnTo>
                <a:lnTo>
                  <a:pt x="156280" y="113731"/>
                </a:lnTo>
                <a:lnTo>
                  <a:pt x="156502" y="113731"/>
                </a:lnTo>
                <a:lnTo>
                  <a:pt x="156735" y="113731"/>
                </a:lnTo>
                <a:lnTo>
                  <a:pt x="156983" y="113731"/>
                </a:lnTo>
                <a:lnTo>
                  <a:pt x="156983" y="113924"/>
                </a:lnTo>
                <a:lnTo>
                  <a:pt x="156983" y="114118"/>
                </a:lnTo>
                <a:lnTo>
                  <a:pt x="156983" y="114316"/>
                </a:lnTo>
                <a:lnTo>
                  <a:pt x="156983" y="114518"/>
                </a:lnTo>
                <a:lnTo>
                  <a:pt x="156983" y="114730"/>
                </a:lnTo>
                <a:lnTo>
                  <a:pt x="156983" y="114950"/>
                </a:lnTo>
                <a:lnTo>
                  <a:pt x="156983" y="115183"/>
                </a:lnTo>
                <a:lnTo>
                  <a:pt x="156983" y="115428"/>
                </a:lnTo>
                <a:lnTo>
                  <a:pt x="158389" y="114419"/>
                </a:lnTo>
                <a:lnTo>
                  <a:pt x="159489" y="113645"/>
                </a:lnTo>
                <a:lnTo>
                  <a:pt x="160368" y="113058"/>
                </a:lnTo>
                <a:lnTo>
                  <a:pt x="161119" y="112608"/>
                </a:lnTo>
                <a:lnTo>
                  <a:pt x="161830" y="112246"/>
                </a:lnTo>
                <a:lnTo>
                  <a:pt x="162591" y="111920"/>
                </a:lnTo>
                <a:lnTo>
                  <a:pt x="163491" y="111584"/>
                </a:lnTo>
                <a:lnTo>
                  <a:pt x="164620" y="111185"/>
                </a:lnTo>
                <a:lnTo>
                  <a:pt x="164302" y="111822"/>
                </a:lnTo>
                <a:lnTo>
                  <a:pt x="163984" y="112458"/>
                </a:lnTo>
                <a:lnTo>
                  <a:pt x="163665" y="113095"/>
                </a:lnTo>
                <a:lnTo>
                  <a:pt x="163347" y="113731"/>
                </a:lnTo>
                <a:lnTo>
                  <a:pt x="163029" y="114368"/>
                </a:lnTo>
                <a:lnTo>
                  <a:pt x="162711" y="115004"/>
                </a:lnTo>
                <a:lnTo>
                  <a:pt x="162393" y="115641"/>
                </a:lnTo>
                <a:lnTo>
                  <a:pt x="162075" y="116277"/>
                </a:lnTo>
                <a:lnTo>
                  <a:pt x="163514" y="115173"/>
                </a:lnTo>
                <a:lnTo>
                  <a:pt x="165109" y="113811"/>
                </a:lnTo>
                <a:lnTo>
                  <a:pt x="166771" y="112250"/>
                </a:lnTo>
                <a:lnTo>
                  <a:pt x="168417" y="110549"/>
                </a:lnTo>
                <a:lnTo>
                  <a:pt x="169957" y="108770"/>
                </a:lnTo>
                <a:lnTo>
                  <a:pt x="171310" y="106970"/>
                </a:lnTo>
                <a:lnTo>
                  <a:pt x="172388" y="105210"/>
                </a:lnTo>
                <a:lnTo>
                  <a:pt x="173106" y="103546"/>
                </a:lnTo>
                <a:lnTo>
                  <a:pt x="172660" y="103546"/>
                </a:lnTo>
                <a:lnTo>
                  <a:pt x="172216" y="103546"/>
                </a:lnTo>
                <a:lnTo>
                  <a:pt x="171776" y="103546"/>
                </a:lnTo>
                <a:lnTo>
                  <a:pt x="171344" y="103546"/>
                </a:lnTo>
                <a:lnTo>
                  <a:pt x="170918" y="103546"/>
                </a:lnTo>
                <a:lnTo>
                  <a:pt x="170504" y="103546"/>
                </a:lnTo>
                <a:lnTo>
                  <a:pt x="170099" y="103546"/>
                </a:lnTo>
                <a:lnTo>
                  <a:pt x="169711" y="103546"/>
                </a:lnTo>
                <a:lnTo>
                  <a:pt x="169781" y="102910"/>
                </a:lnTo>
                <a:lnTo>
                  <a:pt x="169867" y="102274"/>
                </a:lnTo>
                <a:lnTo>
                  <a:pt x="169963" y="101637"/>
                </a:lnTo>
                <a:lnTo>
                  <a:pt x="170071" y="101001"/>
                </a:lnTo>
                <a:lnTo>
                  <a:pt x="170185" y="100364"/>
                </a:lnTo>
                <a:lnTo>
                  <a:pt x="170307" y="99728"/>
                </a:lnTo>
                <a:lnTo>
                  <a:pt x="170432" y="99092"/>
                </a:lnTo>
                <a:lnTo>
                  <a:pt x="170560" y="98454"/>
                </a:lnTo>
                <a:lnTo>
                  <a:pt x="171522" y="97624"/>
                </a:lnTo>
                <a:lnTo>
                  <a:pt x="173179" y="95620"/>
                </a:lnTo>
                <a:lnTo>
                  <a:pt x="175392" y="92801"/>
                </a:lnTo>
                <a:lnTo>
                  <a:pt x="178027" y="89522"/>
                </a:lnTo>
                <a:lnTo>
                  <a:pt x="180946" y="86141"/>
                </a:lnTo>
                <a:lnTo>
                  <a:pt x="184019" y="83011"/>
                </a:lnTo>
                <a:lnTo>
                  <a:pt x="187106" y="80490"/>
                </a:lnTo>
                <a:lnTo>
                  <a:pt x="190077" y="78933"/>
                </a:lnTo>
                <a:lnTo>
                  <a:pt x="190077" y="79126"/>
                </a:lnTo>
                <a:lnTo>
                  <a:pt x="190077" y="79319"/>
                </a:lnTo>
                <a:lnTo>
                  <a:pt x="190077" y="79517"/>
                </a:lnTo>
                <a:lnTo>
                  <a:pt x="190077" y="79720"/>
                </a:lnTo>
                <a:lnTo>
                  <a:pt x="190077" y="79932"/>
                </a:lnTo>
                <a:lnTo>
                  <a:pt x="190077" y="80152"/>
                </a:lnTo>
                <a:lnTo>
                  <a:pt x="190077" y="80385"/>
                </a:lnTo>
                <a:lnTo>
                  <a:pt x="190077" y="80630"/>
                </a:lnTo>
                <a:lnTo>
                  <a:pt x="189829" y="80630"/>
                </a:lnTo>
                <a:lnTo>
                  <a:pt x="189596" y="80630"/>
                </a:lnTo>
                <a:lnTo>
                  <a:pt x="189374" y="80630"/>
                </a:lnTo>
                <a:lnTo>
                  <a:pt x="189164" y="80630"/>
                </a:lnTo>
                <a:lnTo>
                  <a:pt x="188960" y="80630"/>
                </a:lnTo>
                <a:lnTo>
                  <a:pt x="188763" y="80630"/>
                </a:lnTo>
                <a:lnTo>
                  <a:pt x="188570" y="80630"/>
                </a:lnTo>
                <a:lnTo>
                  <a:pt x="188380" y="80630"/>
                </a:lnTo>
                <a:lnTo>
                  <a:pt x="188380" y="80823"/>
                </a:lnTo>
                <a:lnTo>
                  <a:pt x="188380" y="81016"/>
                </a:lnTo>
                <a:lnTo>
                  <a:pt x="188380" y="81215"/>
                </a:lnTo>
                <a:lnTo>
                  <a:pt x="188380" y="81417"/>
                </a:lnTo>
                <a:lnTo>
                  <a:pt x="188380" y="81629"/>
                </a:lnTo>
                <a:lnTo>
                  <a:pt x="188380" y="81849"/>
                </a:lnTo>
                <a:lnTo>
                  <a:pt x="188380" y="82083"/>
                </a:lnTo>
                <a:lnTo>
                  <a:pt x="188380" y="82328"/>
                </a:lnTo>
                <a:lnTo>
                  <a:pt x="188570" y="82328"/>
                </a:lnTo>
                <a:lnTo>
                  <a:pt x="188763" y="82328"/>
                </a:lnTo>
                <a:lnTo>
                  <a:pt x="188960" y="82328"/>
                </a:lnTo>
                <a:lnTo>
                  <a:pt x="189164" y="82328"/>
                </a:lnTo>
                <a:lnTo>
                  <a:pt x="189374" y="82328"/>
                </a:lnTo>
                <a:lnTo>
                  <a:pt x="189596" y="82328"/>
                </a:lnTo>
                <a:lnTo>
                  <a:pt x="189829" y="82328"/>
                </a:lnTo>
                <a:lnTo>
                  <a:pt x="190077" y="82328"/>
                </a:lnTo>
                <a:lnTo>
                  <a:pt x="190077" y="82520"/>
                </a:lnTo>
                <a:lnTo>
                  <a:pt x="190077" y="82714"/>
                </a:lnTo>
                <a:lnTo>
                  <a:pt x="190077" y="82912"/>
                </a:lnTo>
                <a:lnTo>
                  <a:pt x="190077" y="83114"/>
                </a:lnTo>
                <a:lnTo>
                  <a:pt x="190077" y="83326"/>
                </a:lnTo>
                <a:lnTo>
                  <a:pt x="190077" y="83546"/>
                </a:lnTo>
                <a:lnTo>
                  <a:pt x="190077" y="83780"/>
                </a:lnTo>
                <a:lnTo>
                  <a:pt x="190077" y="84025"/>
                </a:lnTo>
                <a:lnTo>
                  <a:pt x="190402" y="84098"/>
                </a:lnTo>
                <a:lnTo>
                  <a:pt x="190741" y="84183"/>
                </a:lnTo>
                <a:lnTo>
                  <a:pt x="191092" y="84282"/>
                </a:lnTo>
                <a:lnTo>
                  <a:pt x="191455" y="84388"/>
                </a:lnTo>
                <a:lnTo>
                  <a:pt x="191824" y="84504"/>
                </a:lnTo>
                <a:lnTo>
                  <a:pt x="192200" y="84624"/>
                </a:lnTo>
                <a:lnTo>
                  <a:pt x="192579" y="84749"/>
                </a:lnTo>
                <a:lnTo>
                  <a:pt x="192962" y="84874"/>
                </a:lnTo>
                <a:lnTo>
                  <a:pt x="193025" y="85193"/>
                </a:lnTo>
                <a:lnTo>
                  <a:pt x="193088" y="85511"/>
                </a:lnTo>
                <a:lnTo>
                  <a:pt x="193151" y="85830"/>
                </a:lnTo>
                <a:lnTo>
                  <a:pt x="193216" y="86148"/>
                </a:lnTo>
                <a:lnTo>
                  <a:pt x="193279" y="86466"/>
                </a:lnTo>
                <a:lnTo>
                  <a:pt x="193342" y="86784"/>
                </a:lnTo>
                <a:lnTo>
                  <a:pt x="193405" y="87102"/>
                </a:lnTo>
                <a:lnTo>
                  <a:pt x="193471" y="87421"/>
                </a:lnTo>
                <a:lnTo>
                  <a:pt x="193661" y="87421"/>
                </a:lnTo>
                <a:lnTo>
                  <a:pt x="193854" y="87421"/>
                </a:lnTo>
                <a:lnTo>
                  <a:pt x="194052" y="87421"/>
                </a:lnTo>
                <a:lnTo>
                  <a:pt x="194256" y="87421"/>
                </a:lnTo>
                <a:lnTo>
                  <a:pt x="194466" y="87421"/>
                </a:lnTo>
                <a:lnTo>
                  <a:pt x="194688" y="87421"/>
                </a:lnTo>
                <a:lnTo>
                  <a:pt x="194920" y="87421"/>
                </a:lnTo>
                <a:lnTo>
                  <a:pt x="195168" y="87421"/>
                </a:lnTo>
                <a:lnTo>
                  <a:pt x="195175" y="86857"/>
                </a:lnTo>
                <a:lnTo>
                  <a:pt x="195196" y="86305"/>
                </a:lnTo>
                <a:lnTo>
                  <a:pt x="195229" y="85767"/>
                </a:lnTo>
                <a:lnTo>
                  <a:pt x="195274" y="85236"/>
                </a:lnTo>
                <a:lnTo>
                  <a:pt x="195325" y="84716"/>
                </a:lnTo>
                <a:lnTo>
                  <a:pt x="195382" y="84200"/>
                </a:lnTo>
                <a:lnTo>
                  <a:pt x="195443" y="83688"/>
                </a:lnTo>
                <a:lnTo>
                  <a:pt x="195508" y="83177"/>
                </a:lnTo>
                <a:lnTo>
                  <a:pt x="195889" y="82932"/>
                </a:lnTo>
                <a:lnTo>
                  <a:pt x="196271" y="82698"/>
                </a:lnTo>
                <a:lnTo>
                  <a:pt x="196652" y="82477"/>
                </a:lnTo>
                <a:lnTo>
                  <a:pt x="197035" y="82265"/>
                </a:lnTo>
                <a:lnTo>
                  <a:pt x="197416" y="82063"/>
                </a:lnTo>
                <a:lnTo>
                  <a:pt x="197797" y="81865"/>
                </a:lnTo>
                <a:lnTo>
                  <a:pt x="198178" y="81672"/>
                </a:lnTo>
                <a:lnTo>
                  <a:pt x="198563" y="81480"/>
                </a:lnTo>
                <a:lnTo>
                  <a:pt x="198563" y="81798"/>
                </a:lnTo>
                <a:lnTo>
                  <a:pt x="198563" y="82116"/>
                </a:lnTo>
                <a:lnTo>
                  <a:pt x="198563" y="82434"/>
                </a:lnTo>
                <a:lnTo>
                  <a:pt x="198563" y="82753"/>
                </a:lnTo>
                <a:lnTo>
                  <a:pt x="198563" y="83071"/>
                </a:lnTo>
                <a:lnTo>
                  <a:pt x="198563" y="83389"/>
                </a:lnTo>
                <a:lnTo>
                  <a:pt x="198563" y="83707"/>
                </a:lnTo>
                <a:lnTo>
                  <a:pt x="198563" y="84025"/>
                </a:lnTo>
                <a:lnTo>
                  <a:pt x="198815" y="83899"/>
                </a:lnTo>
                <a:lnTo>
                  <a:pt x="199070" y="83774"/>
                </a:lnTo>
                <a:lnTo>
                  <a:pt x="199325" y="83654"/>
                </a:lnTo>
                <a:lnTo>
                  <a:pt x="199580" y="83538"/>
                </a:lnTo>
                <a:lnTo>
                  <a:pt x="199834" y="83432"/>
                </a:lnTo>
                <a:lnTo>
                  <a:pt x="200089" y="83334"/>
                </a:lnTo>
                <a:lnTo>
                  <a:pt x="200344" y="83250"/>
                </a:lnTo>
                <a:lnTo>
                  <a:pt x="200600" y="83177"/>
                </a:lnTo>
                <a:lnTo>
                  <a:pt x="200663" y="82733"/>
                </a:lnTo>
                <a:lnTo>
                  <a:pt x="200726" y="82289"/>
                </a:lnTo>
                <a:lnTo>
                  <a:pt x="200789" y="81851"/>
                </a:lnTo>
                <a:lnTo>
                  <a:pt x="200854" y="81417"/>
                </a:lnTo>
                <a:lnTo>
                  <a:pt x="200917" y="80992"/>
                </a:lnTo>
                <a:lnTo>
                  <a:pt x="200980" y="80576"/>
                </a:lnTo>
                <a:lnTo>
                  <a:pt x="201043" y="80173"/>
                </a:lnTo>
                <a:lnTo>
                  <a:pt x="201109" y="79782"/>
                </a:lnTo>
                <a:lnTo>
                  <a:pt x="202233" y="79898"/>
                </a:lnTo>
                <a:lnTo>
                  <a:pt x="203110" y="80000"/>
                </a:lnTo>
                <a:lnTo>
                  <a:pt x="203807" y="80111"/>
                </a:lnTo>
                <a:lnTo>
                  <a:pt x="204396" y="80249"/>
                </a:lnTo>
                <a:lnTo>
                  <a:pt x="204944" y="80436"/>
                </a:lnTo>
                <a:lnTo>
                  <a:pt x="205523" y="80690"/>
                </a:lnTo>
                <a:lnTo>
                  <a:pt x="206200" y="81032"/>
                </a:lnTo>
                <a:lnTo>
                  <a:pt x="207049" y="81480"/>
                </a:lnTo>
                <a:lnTo>
                  <a:pt x="206800" y="80843"/>
                </a:lnTo>
                <a:lnTo>
                  <a:pt x="206567" y="80207"/>
                </a:lnTo>
                <a:lnTo>
                  <a:pt x="206345" y="79570"/>
                </a:lnTo>
                <a:lnTo>
                  <a:pt x="206135" y="78934"/>
                </a:lnTo>
                <a:lnTo>
                  <a:pt x="205931" y="78298"/>
                </a:lnTo>
                <a:lnTo>
                  <a:pt x="205734" y="77661"/>
                </a:lnTo>
                <a:lnTo>
                  <a:pt x="205541" y="77025"/>
                </a:lnTo>
                <a:lnTo>
                  <a:pt x="205351" y="76387"/>
                </a:lnTo>
                <a:lnTo>
                  <a:pt x="205103" y="76387"/>
                </a:lnTo>
                <a:lnTo>
                  <a:pt x="204870" y="76387"/>
                </a:lnTo>
                <a:lnTo>
                  <a:pt x="204648" y="76387"/>
                </a:lnTo>
                <a:lnTo>
                  <a:pt x="204438" y="76387"/>
                </a:lnTo>
                <a:lnTo>
                  <a:pt x="204234" y="76387"/>
                </a:lnTo>
                <a:lnTo>
                  <a:pt x="204037" y="76387"/>
                </a:lnTo>
                <a:lnTo>
                  <a:pt x="203844" y="76387"/>
                </a:lnTo>
                <a:lnTo>
                  <a:pt x="203654" y="76387"/>
                </a:lnTo>
                <a:lnTo>
                  <a:pt x="203654" y="76579"/>
                </a:lnTo>
                <a:lnTo>
                  <a:pt x="203654" y="76773"/>
                </a:lnTo>
                <a:lnTo>
                  <a:pt x="203654" y="76971"/>
                </a:lnTo>
                <a:lnTo>
                  <a:pt x="203654" y="77173"/>
                </a:lnTo>
                <a:lnTo>
                  <a:pt x="203654" y="77385"/>
                </a:lnTo>
                <a:lnTo>
                  <a:pt x="203654" y="77605"/>
                </a:lnTo>
                <a:lnTo>
                  <a:pt x="203654" y="77839"/>
                </a:lnTo>
                <a:lnTo>
                  <a:pt x="203654" y="78084"/>
                </a:lnTo>
                <a:lnTo>
                  <a:pt x="202890" y="78084"/>
                </a:lnTo>
                <a:lnTo>
                  <a:pt x="202128" y="78084"/>
                </a:lnTo>
                <a:lnTo>
                  <a:pt x="201370" y="78084"/>
                </a:lnTo>
                <a:lnTo>
                  <a:pt x="200620" y="78084"/>
                </a:lnTo>
                <a:lnTo>
                  <a:pt x="199875" y="78084"/>
                </a:lnTo>
                <a:lnTo>
                  <a:pt x="199143" y="78084"/>
                </a:lnTo>
                <a:lnTo>
                  <a:pt x="198421" y="78084"/>
                </a:lnTo>
                <a:lnTo>
                  <a:pt x="197714" y="78084"/>
                </a:lnTo>
                <a:lnTo>
                  <a:pt x="198105" y="77235"/>
                </a:lnTo>
                <a:lnTo>
                  <a:pt x="198408" y="76533"/>
                </a:lnTo>
                <a:lnTo>
                  <a:pt x="198638" y="75893"/>
                </a:lnTo>
                <a:lnTo>
                  <a:pt x="198817" y="75220"/>
                </a:lnTo>
                <a:lnTo>
                  <a:pt x="198962" y="74431"/>
                </a:lnTo>
                <a:lnTo>
                  <a:pt x="199097" y="73430"/>
                </a:lnTo>
                <a:lnTo>
                  <a:pt x="199239" y="72132"/>
                </a:lnTo>
                <a:lnTo>
                  <a:pt x="199411" y="70445"/>
                </a:lnTo>
                <a:lnTo>
                  <a:pt x="199855" y="70320"/>
                </a:lnTo>
                <a:lnTo>
                  <a:pt x="200303" y="70195"/>
                </a:lnTo>
                <a:lnTo>
                  <a:pt x="200755" y="70075"/>
                </a:lnTo>
                <a:lnTo>
                  <a:pt x="201214" y="69959"/>
                </a:lnTo>
                <a:lnTo>
                  <a:pt x="201678" y="69853"/>
                </a:lnTo>
                <a:lnTo>
                  <a:pt x="202154" y="69755"/>
                </a:lnTo>
                <a:lnTo>
                  <a:pt x="202641" y="69670"/>
                </a:lnTo>
                <a:lnTo>
                  <a:pt x="203145" y="69597"/>
                </a:lnTo>
                <a:lnTo>
                  <a:pt x="203208" y="69278"/>
                </a:lnTo>
                <a:lnTo>
                  <a:pt x="203271" y="68960"/>
                </a:lnTo>
                <a:lnTo>
                  <a:pt x="203334" y="68642"/>
                </a:lnTo>
                <a:lnTo>
                  <a:pt x="203399" y="68324"/>
                </a:lnTo>
                <a:lnTo>
                  <a:pt x="203462" y="68006"/>
                </a:lnTo>
                <a:lnTo>
                  <a:pt x="203525" y="67687"/>
                </a:lnTo>
                <a:lnTo>
                  <a:pt x="203588" y="67369"/>
                </a:lnTo>
                <a:lnTo>
                  <a:pt x="203654" y="67051"/>
                </a:lnTo>
                <a:lnTo>
                  <a:pt x="203844" y="67051"/>
                </a:lnTo>
                <a:lnTo>
                  <a:pt x="204037" y="67051"/>
                </a:lnTo>
                <a:lnTo>
                  <a:pt x="204234" y="67051"/>
                </a:lnTo>
                <a:lnTo>
                  <a:pt x="204438" y="67051"/>
                </a:lnTo>
                <a:lnTo>
                  <a:pt x="204648" y="67051"/>
                </a:lnTo>
                <a:lnTo>
                  <a:pt x="204870" y="67051"/>
                </a:lnTo>
                <a:lnTo>
                  <a:pt x="205103" y="67051"/>
                </a:lnTo>
                <a:lnTo>
                  <a:pt x="205351" y="67051"/>
                </a:lnTo>
                <a:lnTo>
                  <a:pt x="205351" y="66733"/>
                </a:lnTo>
                <a:lnTo>
                  <a:pt x="205351" y="66415"/>
                </a:lnTo>
                <a:lnTo>
                  <a:pt x="205351" y="66096"/>
                </a:lnTo>
                <a:lnTo>
                  <a:pt x="205351" y="65778"/>
                </a:lnTo>
                <a:lnTo>
                  <a:pt x="205351" y="65460"/>
                </a:lnTo>
                <a:lnTo>
                  <a:pt x="205351" y="65142"/>
                </a:lnTo>
                <a:lnTo>
                  <a:pt x="205351" y="64824"/>
                </a:lnTo>
                <a:lnTo>
                  <a:pt x="205351" y="64504"/>
                </a:lnTo>
                <a:lnTo>
                  <a:pt x="207284" y="64141"/>
                </a:lnTo>
                <a:lnTo>
                  <a:pt x="208921" y="63567"/>
                </a:lnTo>
                <a:lnTo>
                  <a:pt x="210316" y="62793"/>
                </a:lnTo>
                <a:lnTo>
                  <a:pt x="211524" y="61831"/>
                </a:lnTo>
                <a:lnTo>
                  <a:pt x="212594" y="60696"/>
                </a:lnTo>
                <a:lnTo>
                  <a:pt x="213584" y="59397"/>
                </a:lnTo>
                <a:lnTo>
                  <a:pt x="214545" y="57947"/>
                </a:lnTo>
                <a:lnTo>
                  <a:pt x="215533" y="56357"/>
                </a:lnTo>
                <a:lnTo>
                  <a:pt x="215852" y="56295"/>
                </a:lnTo>
                <a:lnTo>
                  <a:pt x="216170" y="56233"/>
                </a:lnTo>
                <a:lnTo>
                  <a:pt x="216488" y="56176"/>
                </a:lnTo>
                <a:lnTo>
                  <a:pt x="216806" y="56124"/>
                </a:lnTo>
                <a:lnTo>
                  <a:pt x="217124" y="56081"/>
                </a:lnTo>
                <a:lnTo>
                  <a:pt x="217442" y="56047"/>
                </a:lnTo>
                <a:lnTo>
                  <a:pt x="217760" y="56026"/>
                </a:lnTo>
                <a:lnTo>
                  <a:pt x="218080" y="56017"/>
                </a:lnTo>
                <a:lnTo>
                  <a:pt x="217952" y="56408"/>
                </a:lnTo>
                <a:lnTo>
                  <a:pt x="217826" y="56811"/>
                </a:lnTo>
                <a:lnTo>
                  <a:pt x="217704" y="57227"/>
                </a:lnTo>
                <a:lnTo>
                  <a:pt x="217590" y="57652"/>
                </a:lnTo>
                <a:lnTo>
                  <a:pt x="217482" y="58086"/>
                </a:lnTo>
                <a:lnTo>
                  <a:pt x="217386" y="58524"/>
                </a:lnTo>
                <a:lnTo>
                  <a:pt x="217301" y="58968"/>
                </a:lnTo>
                <a:lnTo>
                  <a:pt x="217231" y="59412"/>
                </a:lnTo>
                <a:lnTo>
                  <a:pt x="217421" y="59412"/>
                </a:lnTo>
                <a:lnTo>
                  <a:pt x="217614" y="59412"/>
                </a:lnTo>
                <a:lnTo>
                  <a:pt x="217811" y="59412"/>
                </a:lnTo>
                <a:lnTo>
                  <a:pt x="218016" y="59412"/>
                </a:lnTo>
                <a:lnTo>
                  <a:pt x="218226" y="59412"/>
                </a:lnTo>
                <a:lnTo>
                  <a:pt x="218448" y="59412"/>
                </a:lnTo>
                <a:lnTo>
                  <a:pt x="218680" y="59412"/>
                </a:lnTo>
                <a:lnTo>
                  <a:pt x="218928" y="59412"/>
                </a:lnTo>
                <a:lnTo>
                  <a:pt x="218642" y="60086"/>
                </a:lnTo>
                <a:lnTo>
                  <a:pt x="218397" y="60599"/>
                </a:lnTo>
                <a:lnTo>
                  <a:pt x="218151" y="60981"/>
                </a:lnTo>
                <a:lnTo>
                  <a:pt x="217866" y="61259"/>
                </a:lnTo>
                <a:lnTo>
                  <a:pt x="217501" y="61468"/>
                </a:lnTo>
                <a:lnTo>
                  <a:pt x="217018" y="61633"/>
                </a:lnTo>
                <a:lnTo>
                  <a:pt x="216375" y="61788"/>
                </a:lnTo>
                <a:lnTo>
                  <a:pt x="215533" y="61959"/>
                </a:lnTo>
                <a:lnTo>
                  <a:pt x="215533" y="62350"/>
                </a:lnTo>
                <a:lnTo>
                  <a:pt x="215533" y="62752"/>
                </a:lnTo>
                <a:lnTo>
                  <a:pt x="215533" y="63168"/>
                </a:lnTo>
                <a:lnTo>
                  <a:pt x="215533" y="63593"/>
                </a:lnTo>
                <a:lnTo>
                  <a:pt x="215533" y="64027"/>
                </a:lnTo>
                <a:lnTo>
                  <a:pt x="215533" y="64465"/>
                </a:lnTo>
                <a:lnTo>
                  <a:pt x="215533" y="64909"/>
                </a:lnTo>
                <a:lnTo>
                  <a:pt x="215533" y="65353"/>
                </a:lnTo>
                <a:lnTo>
                  <a:pt x="218337" y="64199"/>
                </a:lnTo>
                <a:lnTo>
                  <a:pt x="222151" y="61747"/>
                </a:lnTo>
                <a:lnTo>
                  <a:pt x="226571" y="58372"/>
                </a:lnTo>
                <a:lnTo>
                  <a:pt x="231189" y="54448"/>
                </a:lnTo>
                <a:lnTo>
                  <a:pt x="235599" y="50349"/>
                </a:lnTo>
                <a:lnTo>
                  <a:pt x="239398" y="46448"/>
                </a:lnTo>
                <a:lnTo>
                  <a:pt x="242179" y="43121"/>
                </a:lnTo>
                <a:lnTo>
                  <a:pt x="243536" y="40739"/>
                </a:lnTo>
                <a:lnTo>
                  <a:pt x="242772" y="40812"/>
                </a:lnTo>
                <a:lnTo>
                  <a:pt x="242011" y="40897"/>
                </a:lnTo>
                <a:lnTo>
                  <a:pt x="241252" y="40996"/>
                </a:lnTo>
                <a:lnTo>
                  <a:pt x="240502" y="41102"/>
                </a:lnTo>
                <a:lnTo>
                  <a:pt x="239758" y="41218"/>
                </a:lnTo>
                <a:lnTo>
                  <a:pt x="239025" y="41338"/>
                </a:lnTo>
                <a:lnTo>
                  <a:pt x="238303" y="41463"/>
                </a:lnTo>
                <a:lnTo>
                  <a:pt x="237597" y="41589"/>
                </a:lnTo>
                <a:lnTo>
                  <a:pt x="237597" y="41781"/>
                </a:lnTo>
                <a:lnTo>
                  <a:pt x="237597" y="41974"/>
                </a:lnTo>
                <a:lnTo>
                  <a:pt x="237597" y="42172"/>
                </a:lnTo>
                <a:lnTo>
                  <a:pt x="237597" y="42374"/>
                </a:lnTo>
                <a:lnTo>
                  <a:pt x="237597" y="42587"/>
                </a:lnTo>
                <a:lnTo>
                  <a:pt x="237597" y="42807"/>
                </a:lnTo>
                <a:lnTo>
                  <a:pt x="237597" y="43041"/>
                </a:lnTo>
                <a:lnTo>
                  <a:pt x="237597" y="43286"/>
                </a:lnTo>
                <a:lnTo>
                  <a:pt x="237348" y="43286"/>
                </a:lnTo>
                <a:lnTo>
                  <a:pt x="237115" y="43286"/>
                </a:lnTo>
                <a:lnTo>
                  <a:pt x="236893" y="43286"/>
                </a:lnTo>
                <a:lnTo>
                  <a:pt x="236683" y="43286"/>
                </a:lnTo>
                <a:lnTo>
                  <a:pt x="236479" y="43286"/>
                </a:lnTo>
                <a:lnTo>
                  <a:pt x="236282" y="43286"/>
                </a:lnTo>
                <a:lnTo>
                  <a:pt x="236089" y="43286"/>
                </a:lnTo>
                <a:lnTo>
                  <a:pt x="235899" y="43286"/>
                </a:lnTo>
                <a:lnTo>
                  <a:pt x="235771" y="43923"/>
                </a:lnTo>
                <a:lnTo>
                  <a:pt x="235646" y="44560"/>
                </a:lnTo>
                <a:lnTo>
                  <a:pt x="235525" y="45196"/>
                </a:lnTo>
                <a:lnTo>
                  <a:pt x="235411" y="45833"/>
                </a:lnTo>
                <a:lnTo>
                  <a:pt x="235303" y="46469"/>
                </a:lnTo>
                <a:lnTo>
                  <a:pt x="235206" y="47106"/>
                </a:lnTo>
                <a:lnTo>
                  <a:pt x="235120" y="47742"/>
                </a:lnTo>
                <a:lnTo>
                  <a:pt x="235050" y="48378"/>
                </a:lnTo>
                <a:lnTo>
                  <a:pt x="234802" y="48378"/>
                </a:lnTo>
                <a:lnTo>
                  <a:pt x="234570" y="48378"/>
                </a:lnTo>
                <a:lnTo>
                  <a:pt x="234348" y="48378"/>
                </a:lnTo>
                <a:lnTo>
                  <a:pt x="234138" y="48378"/>
                </a:lnTo>
                <a:lnTo>
                  <a:pt x="233934" y="48378"/>
                </a:lnTo>
                <a:lnTo>
                  <a:pt x="233737" y="48378"/>
                </a:lnTo>
                <a:lnTo>
                  <a:pt x="233544" y="48378"/>
                </a:lnTo>
                <a:lnTo>
                  <a:pt x="233354" y="48378"/>
                </a:lnTo>
                <a:lnTo>
                  <a:pt x="233679" y="47424"/>
                </a:lnTo>
                <a:lnTo>
                  <a:pt x="234018" y="46469"/>
                </a:lnTo>
                <a:lnTo>
                  <a:pt x="234369" y="45515"/>
                </a:lnTo>
                <a:lnTo>
                  <a:pt x="234732" y="44560"/>
                </a:lnTo>
                <a:lnTo>
                  <a:pt x="235101" y="43605"/>
                </a:lnTo>
                <a:lnTo>
                  <a:pt x="235477" y="42651"/>
                </a:lnTo>
                <a:lnTo>
                  <a:pt x="235856" y="41696"/>
                </a:lnTo>
                <a:lnTo>
                  <a:pt x="236239" y="40739"/>
                </a:lnTo>
                <a:lnTo>
                  <a:pt x="236810" y="40494"/>
                </a:lnTo>
                <a:lnTo>
                  <a:pt x="237385" y="40261"/>
                </a:lnTo>
                <a:lnTo>
                  <a:pt x="237965" y="40041"/>
                </a:lnTo>
                <a:lnTo>
                  <a:pt x="238550" y="39829"/>
                </a:lnTo>
                <a:lnTo>
                  <a:pt x="239142" y="39627"/>
                </a:lnTo>
                <a:lnTo>
                  <a:pt x="239746" y="39428"/>
                </a:lnTo>
                <a:lnTo>
                  <a:pt x="240361" y="39235"/>
                </a:lnTo>
                <a:lnTo>
                  <a:pt x="240990" y="39042"/>
                </a:lnTo>
                <a:lnTo>
                  <a:pt x="241186" y="37087"/>
                </a:lnTo>
                <a:lnTo>
                  <a:pt x="241705" y="35577"/>
                </a:lnTo>
                <a:lnTo>
                  <a:pt x="242438" y="34374"/>
                </a:lnTo>
                <a:lnTo>
                  <a:pt x="243281" y="33335"/>
                </a:lnTo>
                <a:lnTo>
                  <a:pt x="244122" y="32322"/>
                </a:lnTo>
                <a:lnTo>
                  <a:pt x="244856" y="31190"/>
                </a:lnTo>
                <a:lnTo>
                  <a:pt x="245375" y="29800"/>
                </a:lnTo>
                <a:lnTo>
                  <a:pt x="245573" y="28009"/>
                </a:lnTo>
                <a:lnTo>
                  <a:pt x="245826" y="27883"/>
                </a:lnTo>
                <a:lnTo>
                  <a:pt x="246084" y="27758"/>
                </a:lnTo>
                <a:lnTo>
                  <a:pt x="246345" y="27638"/>
                </a:lnTo>
                <a:lnTo>
                  <a:pt x="246612" y="27521"/>
                </a:lnTo>
                <a:lnTo>
                  <a:pt x="246886" y="27415"/>
                </a:lnTo>
                <a:lnTo>
                  <a:pt x="247171" y="27317"/>
                </a:lnTo>
                <a:lnTo>
                  <a:pt x="247468" y="27233"/>
                </a:lnTo>
                <a:lnTo>
                  <a:pt x="247779" y="27160"/>
                </a:lnTo>
                <a:lnTo>
                  <a:pt x="247779" y="27353"/>
                </a:lnTo>
                <a:lnTo>
                  <a:pt x="247779" y="27546"/>
                </a:lnTo>
                <a:lnTo>
                  <a:pt x="247779" y="27745"/>
                </a:lnTo>
                <a:lnTo>
                  <a:pt x="247779" y="27947"/>
                </a:lnTo>
                <a:lnTo>
                  <a:pt x="247779" y="28159"/>
                </a:lnTo>
                <a:lnTo>
                  <a:pt x="247779" y="28379"/>
                </a:lnTo>
                <a:lnTo>
                  <a:pt x="247779" y="28612"/>
                </a:lnTo>
                <a:lnTo>
                  <a:pt x="247779" y="28857"/>
                </a:lnTo>
                <a:lnTo>
                  <a:pt x="248416" y="28612"/>
                </a:lnTo>
                <a:lnTo>
                  <a:pt x="249052" y="28379"/>
                </a:lnTo>
                <a:lnTo>
                  <a:pt x="249688" y="28159"/>
                </a:lnTo>
                <a:lnTo>
                  <a:pt x="250324" y="27947"/>
                </a:lnTo>
                <a:lnTo>
                  <a:pt x="250961" y="27745"/>
                </a:lnTo>
                <a:lnTo>
                  <a:pt x="251597" y="27546"/>
                </a:lnTo>
                <a:lnTo>
                  <a:pt x="252233" y="27353"/>
                </a:lnTo>
                <a:lnTo>
                  <a:pt x="252871" y="27160"/>
                </a:lnTo>
                <a:lnTo>
                  <a:pt x="252759" y="27779"/>
                </a:lnTo>
                <a:lnTo>
                  <a:pt x="252458" y="28376"/>
                </a:lnTo>
                <a:lnTo>
                  <a:pt x="252019" y="28981"/>
                </a:lnTo>
                <a:lnTo>
                  <a:pt x="251491" y="29622"/>
                </a:lnTo>
                <a:lnTo>
                  <a:pt x="250922" y="30328"/>
                </a:lnTo>
                <a:lnTo>
                  <a:pt x="250363" y="31124"/>
                </a:lnTo>
                <a:lnTo>
                  <a:pt x="249864" y="32040"/>
                </a:lnTo>
                <a:lnTo>
                  <a:pt x="249476" y="33101"/>
                </a:lnTo>
                <a:lnTo>
                  <a:pt x="253259" y="32027"/>
                </a:lnTo>
                <a:lnTo>
                  <a:pt x="256456" y="30100"/>
                </a:lnTo>
                <a:lnTo>
                  <a:pt x="259244" y="27553"/>
                </a:lnTo>
                <a:lnTo>
                  <a:pt x="261801" y="24615"/>
                </a:lnTo>
                <a:lnTo>
                  <a:pt x="264299" y="21518"/>
                </a:lnTo>
                <a:lnTo>
                  <a:pt x="266920" y="18493"/>
                </a:lnTo>
                <a:lnTo>
                  <a:pt x="269839" y="15771"/>
                </a:lnTo>
                <a:lnTo>
                  <a:pt x="273236" y="13580"/>
                </a:lnTo>
                <a:lnTo>
                  <a:pt x="272988" y="14290"/>
                </a:lnTo>
                <a:lnTo>
                  <a:pt x="272755" y="15011"/>
                </a:lnTo>
                <a:lnTo>
                  <a:pt x="272533" y="15746"/>
                </a:lnTo>
                <a:lnTo>
                  <a:pt x="272323" y="16488"/>
                </a:lnTo>
                <a:lnTo>
                  <a:pt x="272119" y="17241"/>
                </a:lnTo>
                <a:lnTo>
                  <a:pt x="271922" y="17997"/>
                </a:lnTo>
                <a:lnTo>
                  <a:pt x="271729" y="18759"/>
                </a:lnTo>
                <a:lnTo>
                  <a:pt x="271539" y="19521"/>
                </a:lnTo>
                <a:lnTo>
                  <a:pt x="270508" y="19920"/>
                </a:lnTo>
                <a:lnTo>
                  <a:pt x="269790" y="20257"/>
                </a:lnTo>
                <a:lnTo>
                  <a:pt x="269315" y="20583"/>
                </a:lnTo>
                <a:lnTo>
                  <a:pt x="269014" y="20944"/>
                </a:lnTo>
                <a:lnTo>
                  <a:pt x="268815" y="21394"/>
                </a:lnTo>
                <a:lnTo>
                  <a:pt x="268651" y="21982"/>
                </a:lnTo>
                <a:lnTo>
                  <a:pt x="268450" y="22755"/>
                </a:lnTo>
                <a:lnTo>
                  <a:pt x="268145" y="23765"/>
                </a:lnTo>
                <a:lnTo>
                  <a:pt x="268653" y="23765"/>
                </a:lnTo>
                <a:lnTo>
                  <a:pt x="269164" y="23765"/>
                </a:lnTo>
                <a:lnTo>
                  <a:pt x="269679" y="23765"/>
                </a:lnTo>
                <a:lnTo>
                  <a:pt x="270202" y="23765"/>
                </a:lnTo>
                <a:lnTo>
                  <a:pt x="270730" y="23765"/>
                </a:lnTo>
                <a:lnTo>
                  <a:pt x="271270" y="23765"/>
                </a:lnTo>
                <a:lnTo>
                  <a:pt x="271821" y="23765"/>
                </a:lnTo>
                <a:lnTo>
                  <a:pt x="272388" y="23765"/>
                </a:lnTo>
                <a:lnTo>
                  <a:pt x="270754" y="26508"/>
                </a:lnTo>
                <a:lnTo>
                  <a:pt x="268496" y="29622"/>
                </a:lnTo>
                <a:lnTo>
                  <a:pt x="265748" y="32896"/>
                </a:lnTo>
                <a:lnTo>
                  <a:pt x="262649" y="36114"/>
                </a:lnTo>
                <a:lnTo>
                  <a:pt x="259335" y="39063"/>
                </a:lnTo>
                <a:lnTo>
                  <a:pt x="255942" y="41526"/>
                </a:lnTo>
                <a:lnTo>
                  <a:pt x="252610" y="43288"/>
                </a:lnTo>
                <a:lnTo>
                  <a:pt x="249476" y="44135"/>
                </a:lnTo>
                <a:lnTo>
                  <a:pt x="249244" y="46318"/>
                </a:lnTo>
                <a:lnTo>
                  <a:pt x="248902" y="48189"/>
                </a:lnTo>
                <a:lnTo>
                  <a:pt x="248401" y="49805"/>
                </a:lnTo>
                <a:lnTo>
                  <a:pt x="247693" y="51222"/>
                </a:lnTo>
                <a:lnTo>
                  <a:pt x="246730" y="52498"/>
                </a:lnTo>
                <a:lnTo>
                  <a:pt x="245466" y="53684"/>
                </a:lnTo>
                <a:lnTo>
                  <a:pt x="243850" y="54840"/>
                </a:lnTo>
                <a:lnTo>
                  <a:pt x="241840" y="56017"/>
                </a:lnTo>
                <a:lnTo>
                  <a:pt x="242158" y="55191"/>
                </a:lnTo>
                <a:lnTo>
                  <a:pt x="242476" y="54365"/>
                </a:lnTo>
                <a:lnTo>
                  <a:pt x="242794" y="53546"/>
                </a:lnTo>
                <a:lnTo>
                  <a:pt x="243112" y="52729"/>
                </a:lnTo>
                <a:lnTo>
                  <a:pt x="243430" y="51923"/>
                </a:lnTo>
                <a:lnTo>
                  <a:pt x="243748" y="51124"/>
                </a:lnTo>
                <a:lnTo>
                  <a:pt x="244067" y="50339"/>
                </a:lnTo>
                <a:lnTo>
                  <a:pt x="244385" y="49566"/>
                </a:lnTo>
                <a:lnTo>
                  <a:pt x="244703" y="49504"/>
                </a:lnTo>
                <a:lnTo>
                  <a:pt x="245021" y="49443"/>
                </a:lnTo>
                <a:lnTo>
                  <a:pt x="245339" y="49386"/>
                </a:lnTo>
                <a:lnTo>
                  <a:pt x="245657" y="49334"/>
                </a:lnTo>
                <a:lnTo>
                  <a:pt x="245975" y="49291"/>
                </a:lnTo>
                <a:lnTo>
                  <a:pt x="246294" y="49257"/>
                </a:lnTo>
                <a:lnTo>
                  <a:pt x="246612" y="49236"/>
                </a:lnTo>
                <a:lnTo>
                  <a:pt x="246931" y="49227"/>
                </a:lnTo>
                <a:lnTo>
                  <a:pt x="247001" y="48465"/>
                </a:lnTo>
                <a:lnTo>
                  <a:pt x="247086" y="47703"/>
                </a:lnTo>
                <a:lnTo>
                  <a:pt x="247182" y="46947"/>
                </a:lnTo>
                <a:lnTo>
                  <a:pt x="247290" y="46194"/>
                </a:lnTo>
                <a:lnTo>
                  <a:pt x="247404" y="45452"/>
                </a:lnTo>
                <a:lnTo>
                  <a:pt x="247526" y="44717"/>
                </a:lnTo>
                <a:lnTo>
                  <a:pt x="247651" y="43996"/>
                </a:lnTo>
                <a:lnTo>
                  <a:pt x="247779" y="43286"/>
                </a:lnTo>
                <a:lnTo>
                  <a:pt x="245512" y="44543"/>
                </a:lnTo>
                <a:lnTo>
                  <a:pt x="243331" y="46009"/>
                </a:lnTo>
                <a:lnTo>
                  <a:pt x="241289" y="47675"/>
                </a:lnTo>
                <a:lnTo>
                  <a:pt x="239441" y="49525"/>
                </a:lnTo>
                <a:lnTo>
                  <a:pt x="237839" y="51554"/>
                </a:lnTo>
                <a:lnTo>
                  <a:pt x="236537" y="53743"/>
                </a:lnTo>
                <a:lnTo>
                  <a:pt x="235589" y="56085"/>
                </a:lnTo>
                <a:lnTo>
                  <a:pt x="235050" y="58563"/>
                </a:lnTo>
                <a:lnTo>
                  <a:pt x="235559" y="58437"/>
                </a:lnTo>
                <a:lnTo>
                  <a:pt x="236070" y="58312"/>
                </a:lnTo>
                <a:lnTo>
                  <a:pt x="236585" y="58192"/>
                </a:lnTo>
                <a:lnTo>
                  <a:pt x="237107" y="58076"/>
                </a:lnTo>
                <a:lnTo>
                  <a:pt x="237636" y="57970"/>
                </a:lnTo>
                <a:lnTo>
                  <a:pt x="238176" y="57872"/>
                </a:lnTo>
                <a:lnTo>
                  <a:pt x="238727" y="57788"/>
                </a:lnTo>
                <a:lnTo>
                  <a:pt x="239293" y="57715"/>
                </a:lnTo>
                <a:lnTo>
                  <a:pt x="238975" y="58670"/>
                </a:lnTo>
                <a:lnTo>
                  <a:pt x="238657" y="59625"/>
                </a:lnTo>
                <a:lnTo>
                  <a:pt x="238339" y="60580"/>
                </a:lnTo>
                <a:lnTo>
                  <a:pt x="238021" y="61534"/>
                </a:lnTo>
                <a:lnTo>
                  <a:pt x="237703" y="62489"/>
                </a:lnTo>
                <a:lnTo>
                  <a:pt x="237384" y="63444"/>
                </a:lnTo>
                <a:lnTo>
                  <a:pt x="237066" y="64398"/>
                </a:lnTo>
                <a:lnTo>
                  <a:pt x="236748" y="65353"/>
                </a:lnTo>
                <a:lnTo>
                  <a:pt x="237685" y="65126"/>
                </a:lnTo>
                <a:lnTo>
                  <a:pt x="238487" y="64733"/>
                </a:lnTo>
                <a:lnTo>
                  <a:pt x="239193" y="64239"/>
                </a:lnTo>
                <a:lnTo>
                  <a:pt x="239845" y="63699"/>
                </a:lnTo>
                <a:lnTo>
                  <a:pt x="240479" y="63176"/>
                </a:lnTo>
                <a:lnTo>
                  <a:pt x="241138" y="62728"/>
                </a:lnTo>
                <a:lnTo>
                  <a:pt x="241861" y="62416"/>
                </a:lnTo>
                <a:lnTo>
                  <a:pt x="242688" y="62298"/>
                </a:lnTo>
                <a:lnTo>
                  <a:pt x="243079" y="62753"/>
                </a:lnTo>
                <a:lnTo>
                  <a:pt x="243381" y="63124"/>
                </a:lnTo>
                <a:lnTo>
                  <a:pt x="243611" y="63460"/>
                </a:lnTo>
                <a:lnTo>
                  <a:pt x="243790" y="63805"/>
                </a:lnTo>
                <a:lnTo>
                  <a:pt x="243936" y="64207"/>
                </a:lnTo>
                <a:lnTo>
                  <a:pt x="244071" y="64709"/>
                </a:lnTo>
                <a:lnTo>
                  <a:pt x="244213" y="65359"/>
                </a:lnTo>
                <a:lnTo>
                  <a:pt x="244385" y="66201"/>
                </a:lnTo>
                <a:lnTo>
                  <a:pt x="243939" y="66201"/>
                </a:lnTo>
                <a:lnTo>
                  <a:pt x="243495" y="66201"/>
                </a:lnTo>
                <a:lnTo>
                  <a:pt x="243055" y="66201"/>
                </a:lnTo>
                <a:lnTo>
                  <a:pt x="242623" y="66201"/>
                </a:lnTo>
                <a:lnTo>
                  <a:pt x="242197" y="66201"/>
                </a:lnTo>
                <a:lnTo>
                  <a:pt x="241783" y="66201"/>
                </a:lnTo>
                <a:lnTo>
                  <a:pt x="241378" y="66201"/>
                </a:lnTo>
                <a:lnTo>
                  <a:pt x="240990" y="66201"/>
                </a:lnTo>
                <a:lnTo>
                  <a:pt x="240990" y="66713"/>
                </a:lnTo>
                <a:lnTo>
                  <a:pt x="240990" y="67224"/>
                </a:lnTo>
                <a:lnTo>
                  <a:pt x="240990" y="67740"/>
                </a:lnTo>
                <a:lnTo>
                  <a:pt x="240990" y="68261"/>
                </a:lnTo>
                <a:lnTo>
                  <a:pt x="240990" y="68791"/>
                </a:lnTo>
                <a:lnTo>
                  <a:pt x="240990" y="69330"/>
                </a:lnTo>
                <a:lnTo>
                  <a:pt x="240990" y="69882"/>
                </a:lnTo>
                <a:lnTo>
                  <a:pt x="240990" y="70445"/>
                </a:lnTo>
                <a:lnTo>
                  <a:pt x="241498" y="70200"/>
                </a:lnTo>
                <a:lnTo>
                  <a:pt x="242011" y="69967"/>
                </a:lnTo>
                <a:lnTo>
                  <a:pt x="242526" y="69747"/>
                </a:lnTo>
                <a:lnTo>
                  <a:pt x="243048" y="69535"/>
                </a:lnTo>
                <a:lnTo>
                  <a:pt x="243576" y="69333"/>
                </a:lnTo>
                <a:lnTo>
                  <a:pt x="244117" y="69134"/>
                </a:lnTo>
                <a:lnTo>
                  <a:pt x="244667" y="68941"/>
                </a:lnTo>
                <a:lnTo>
                  <a:pt x="245233" y="68748"/>
                </a:lnTo>
                <a:lnTo>
                  <a:pt x="245233" y="69067"/>
                </a:lnTo>
                <a:lnTo>
                  <a:pt x="245233" y="69386"/>
                </a:lnTo>
                <a:lnTo>
                  <a:pt x="245233" y="69704"/>
                </a:lnTo>
                <a:lnTo>
                  <a:pt x="245233" y="70022"/>
                </a:lnTo>
                <a:lnTo>
                  <a:pt x="245233" y="70340"/>
                </a:lnTo>
                <a:lnTo>
                  <a:pt x="245233" y="70658"/>
                </a:lnTo>
                <a:lnTo>
                  <a:pt x="245233" y="70977"/>
                </a:lnTo>
                <a:lnTo>
                  <a:pt x="245233" y="71295"/>
                </a:lnTo>
                <a:lnTo>
                  <a:pt x="243851" y="71859"/>
                </a:lnTo>
                <a:lnTo>
                  <a:pt x="242850" y="72429"/>
                </a:lnTo>
                <a:lnTo>
                  <a:pt x="242159" y="73042"/>
                </a:lnTo>
                <a:lnTo>
                  <a:pt x="241710" y="73735"/>
                </a:lnTo>
                <a:lnTo>
                  <a:pt x="241435" y="74550"/>
                </a:lnTo>
                <a:lnTo>
                  <a:pt x="241270" y="75521"/>
                </a:lnTo>
                <a:lnTo>
                  <a:pt x="241143" y="76687"/>
                </a:lnTo>
                <a:lnTo>
                  <a:pt x="240990" y="78084"/>
                </a:lnTo>
                <a:lnTo>
                  <a:pt x="240353" y="78278"/>
                </a:lnTo>
                <a:lnTo>
                  <a:pt x="239717" y="78471"/>
                </a:lnTo>
                <a:lnTo>
                  <a:pt x="239080" y="78669"/>
                </a:lnTo>
                <a:lnTo>
                  <a:pt x="238444" y="78871"/>
                </a:lnTo>
                <a:lnTo>
                  <a:pt x="237808" y="79083"/>
                </a:lnTo>
                <a:lnTo>
                  <a:pt x="237171" y="79303"/>
                </a:lnTo>
                <a:lnTo>
                  <a:pt x="236535" y="79536"/>
                </a:lnTo>
                <a:lnTo>
                  <a:pt x="235899" y="79782"/>
                </a:lnTo>
                <a:lnTo>
                  <a:pt x="235899" y="79463"/>
                </a:lnTo>
                <a:lnTo>
                  <a:pt x="235899" y="79145"/>
                </a:lnTo>
                <a:lnTo>
                  <a:pt x="235899" y="78827"/>
                </a:lnTo>
                <a:lnTo>
                  <a:pt x="235899" y="78509"/>
                </a:lnTo>
                <a:lnTo>
                  <a:pt x="235899" y="78190"/>
                </a:lnTo>
                <a:lnTo>
                  <a:pt x="235899" y="77872"/>
                </a:lnTo>
                <a:lnTo>
                  <a:pt x="235899" y="77554"/>
                </a:lnTo>
                <a:lnTo>
                  <a:pt x="235899" y="77236"/>
                </a:lnTo>
                <a:lnTo>
                  <a:pt x="233105" y="78559"/>
                </a:lnTo>
                <a:lnTo>
                  <a:pt x="230796" y="79789"/>
                </a:lnTo>
                <a:lnTo>
                  <a:pt x="228917" y="81027"/>
                </a:lnTo>
                <a:lnTo>
                  <a:pt x="227413" y="82371"/>
                </a:lnTo>
                <a:lnTo>
                  <a:pt x="226224" y="83924"/>
                </a:lnTo>
                <a:lnTo>
                  <a:pt x="225301" y="85783"/>
                </a:lnTo>
                <a:lnTo>
                  <a:pt x="224584" y="88047"/>
                </a:lnTo>
                <a:lnTo>
                  <a:pt x="224019" y="90815"/>
                </a:lnTo>
                <a:lnTo>
                  <a:pt x="224337" y="90815"/>
                </a:lnTo>
                <a:lnTo>
                  <a:pt x="224656" y="90815"/>
                </a:lnTo>
                <a:lnTo>
                  <a:pt x="224974" y="90815"/>
                </a:lnTo>
                <a:lnTo>
                  <a:pt x="225292" y="90815"/>
                </a:lnTo>
                <a:lnTo>
                  <a:pt x="225610" y="90815"/>
                </a:lnTo>
                <a:lnTo>
                  <a:pt x="225928" y="90815"/>
                </a:lnTo>
                <a:lnTo>
                  <a:pt x="226246" y="90815"/>
                </a:lnTo>
                <a:lnTo>
                  <a:pt x="226566" y="90815"/>
                </a:lnTo>
                <a:lnTo>
                  <a:pt x="226566" y="90570"/>
                </a:lnTo>
                <a:lnTo>
                  <a:pt x="226566" y="90337"/>
                </a:lnTo>
                <a:lnTo>
                  <a:pt x="226566" y="90116"/>
                </a:lnTo>
                <a:lnTo>
                  <a:pt x="226566" y="89904"/>
                </a:lnTo>
                <a:lnTo>
                  <a:pt x="226566" y="89702"/>
                </a:lnTo>
                <a:lnTo>
                  <a:pt x="226566" y="89504"/>
                </a:lnTo>
                <a:lnTo>
                  <a:pt x="226566" y="89311"/>
                </a:lnTo>
                <a:lnTo>
                  <a:pt x="226566" y="89118"/>
                </a:lnTo>
                <a:lnTo>
                  <a:pt x="226756" y="89118"/>
                </a:lnTo>
                <a:lnTo>
                  <a:pt x="226949" y="89118"/>
                </a:lnTo>
                <a:lnTo>
                  <a:pt x="227145" y="89118"/>
                </a:lnTo>
                <a:lnTo>
                  <a:pt x="227349" y="89118"/>
                </a:lnTo>
                <a:lnTo>
                  <a:pt x="227559" y="89118"/>
                </a:lnTo>
                <a:lnTo>
                  <a:pt x="227781" y="89118"/>
                </a:lnTo>
                <a:lnTo>
                  <a:pt x="228014" y="89118"/>
                </a:lnTo>
                <a:lnTo>
                  <a:pt x="228262" y="89118"/>
                </a:lnTo>
                <a:lnTo>
                  <a:pt x="227803" y="90837"/>
                </a:lnTo>
                <a:lnTo>
                  <a:pt x="226570" y="93311"/>
                </a:lnTo>
                <a:lnTo>
                  <a:pt x="224771" y="96341"/>
                </a:lnTo>
                <a:lnTo>
                  <a:pt x="222619" y="99728"/>
                </a:lnTo>
                <a:lnTo>
                  <a:pt x="220322" y="103276"/>
                </a:lnTo>
                <a:lnTo>
                  <a:pt x="218095" y="106784"/>
                </a:lnTo>
                <a:lnTo>
                  <a:pt x="216145" y="110053"/>
                </a:lnTo>
                <a:lnTo>
                  <a:pt x="214685" y="112883"/>
                </a:lnTo>
                <a:lnTo>
                  <a:pt x="215003" y="112883"/>
                </a:lnTo>
                <a:lnTo>
                  <a:pt x="215321" y="112883"/>
                </a:lnTo>
                <a:lnTo>
                  <a:pt x="215639" y="112883"/>
                </a:lnTo>
                <a:lnTo>
                  <a:pt x="215958" y="112883"/>
                </a:lnTo>
                <a:lnTo>
                  <a:pt x="216276" y="112883"/>
                </a:lnTo>
                <a:lnTo>
                  <a:pt x="216594" y="112883"/>
                </a:lnTo>
                <a:lnTo>
                  <a:pt x="216912" y="112883"/>
                </a:lnTo>
                <a:lnTo>
                  <a:pt x="217231" y="112883"/>
                </a:lnTo>
                <a:lnTo>
                  <a:pt x="217231" y="112638"/>
                </a:lnTo>
                <a:lnTo>
                  <a:pt x="217231" y="112403"/>
                </a:lnTo>
                <a:lnTo>
                  <a:pt x="217231" y="112183"/>
                </a:lnTo>
                <a:lnTo>
                  <a:pt x="217231" y="111971"/>
                </a:lnTo>
                <a:lnTo>
                  <a:pt x="217231" y="111769"/>
                </a:lnTo>
                <a:lnTo>
                  <a:pt x="217231" y="111571"/>
                </a:lnTo>
                <a:lnTo>
                  <a:pt x="217231" y="111378"/>
                </a:lnTo>
                <a:lnTo>
                  <a:pt x="217231" y="111185"/>
                </a:lnTo>
                <a:lnTo>
                  <a:pt x="217421" y="111185"/>
                </a:lnTo>
                <a:lnTo>
                  <a:pt x="217614" y="111185"/>
                </a:lnTo>
                <a:lnTo>
                  <a:pt x="217811" y="111185"/>
                </a:lnTo>
                <a:lnTo>
                  <a:pt x="218016" y="111185"/>
                </a:lnTo>
                <a:lnTo>
                  <a:pt x="218226" y="111185"/>
                </a:lnTo>
                <a:lnTo>
                  <a:pt x="218448" y="111185"/>
                </a:lnTo>
                <a:lnTo>
                  <a:pt x="218680" y="111185"/>
                </a:lnTo>
                <a:lnTo>
                  <a:pt x="218928" y="111185"/>
                </a:lnTo>
                <a:lnTo>
                  <a:pt x="218928" y="111576"/>
                </a:lnTo>
                <a:lnTo>
                  <a:pt x="218928" y="111979"/>
                </a:lnTo>
                <a:lnTo>
                  <a:pt x="218928" y="112395"/>
                </a:lnTo>
                <a:lnTo>
                  <a:pt x="218928" y="112820"/>
                </a:lnTo>
                <a:lnTo>
                  <a:pt x="218928" y="113254"/>
                </a:lnTo>
                <a:lnTo>
                  <a:pt x="218928" y="113692"/>
                </a:lnTo>
                <a:lnTo>
                  <a:pt x="218928" y="114136"/>
                </a:lnTo>
                <a:lnTo>
                  <a:pt x="218928" y="114580"/>
                </a:lnTo>
                <a:lnTo>
                  <a:pt x="218617" y="114653"/>
                </a:lnTo>
                <a:lnTo>
                  <a:pt x="218320" y="114738"/>
                </a:lnTo>
                <a:lnTo>
                  <a:pt x="218035" y="114836"/>
                </a:lnTo>
                <a:lnTo>
                  <a:pt x="217760" y="114942"/>
                </a:lnTo>
                <a:lnTo>
                  <a:pt x="217493" y="115058"/>
                </a:lnTo>
                <a:lnTo>
                  <a:pt x="217232" y="115178"/>
                </a:lnTo>
                <a:lnTo>
                  <a:pt x="216975" y="115303"/>
                </a:lnTo>
                <a:lnTo>
                  <a:pt x="216722" y="115428"/>
                </a:lnTo>
                <a:lnTo>
                  <a:pt x="216657" y="115940"/>
                </a:lnTo>
                <a:lnTo>
                  <a:pt x="216596" y="116451"/>
                </a:lnTo>
                <a:lnTo>
                  <a:pt x="216539" y="116968"/>
                </a:lnTo>
                <a:lnTo>
                  <a:pt x="216488" y="117488"/>
                </a:lnTo>
                <a:lnTo>
                  <a:pt x="216444" y="118018"/>
                </a:lnTo>
                <a:lnTo>
                  <a:pt x="216411" y="118557"/>
                </a:lnTo>
                <a:lnTo>
                  <a:pt x="216390" y="119109"/>
                </a:lnTo>
                <a:lnTo>
                  <a:pt x="216383" y="119672"/>
                </a:lnTo>
                <a:lnTo>
                  <a:pt x="215937" y="119672"/>
                </a:lnTo>
                <a:lnTo>
                  <a:pt x="215493" y="119672"/>
                </a:lnTo>
                <a:lnTo>
                  <a:pt x="215053" y="119672"/>
                </a:lnTo>
                <a:lnTo>
                  <a:pt x="214621" y="119672"/>
                </a:lnTo>
                <a:lnTo>
                  <a:pt x="214195" y="119672"/>
                </a:lnTo>
                <a:lnTo>
                  <a:pt x="213781" y="119672"/>
                </a:lnTo>
                <a:lnTo>
                  <a:pt x="213376" y="119672"/>
                </a:lnTo>
                <a:lnTo>
                  <a:pt x="212988" y="119672"/>
                </a:lnTo>
                <a:lnTo>
                  <a:pt x="212988" y="119427"/>
                </a:lnTo>
                <a:lnTo>
                  <a:pt x="212988" y="119194"/>
                </a:lnTo>
                <a:lnTo>
                  <a:pt x="212988" y="118974"/>
                </a:lnTo>
                <a:lnTo>
                  <a:pt x="212988" y="118762"/>
                </a:lnTo>
                <a:lnTo>
                  <a:pt x="212988" y="118560"/>
                </a:lnTo>
                <a:lnTo>
                  <a:pt x="212988" y="118361"/>
                </a:lnTo>
                <a:lnTo>
                  <a:pt x="212988" y="118168"/>
                </a:lnTo>
                <a:lnTo>
                  <a:pt x="212988" y="117975"/>
                </a:lnTo>
                <a:lnTo>
                  <a:pt x="213178" y="117975"/>
                </a:lnTo>
                <a:lnTo>
                  <a:pt x="213371" y="117975"/>
                </a:lnTo>
                <a:lnTo>
                  <a:pt x="213569" y="117975"/>
                </a:lnTo>
                <a:lnTo>
                  <a:pt x="213773" y="117975"/>
                </a:lnTo>
                <a:lnTo>
                  <a:pt x="213983" y="117975"/>
                </a:lnTo>
                <a:lnTo>
                  <a:pt x="214205" y="117975"/>
                </a:lnTo>
                <a:lnTo>
                  <a:pt x="214437" y="117975"/>
                </a:lnTo>
                <a:lnTo>
                  <a:pt x="214685" y="117975"/>
                </a:lnTo>
                <a:lnTo>
                  <a:pt x="214685" y="117657"/>
                </a:lnTo>
                <a:lnTo>
                  <a:pt x="214685" y="117339"/>
                </a:lnTo>
                <a:lnTo>
                  <a:pt x="214685" y="117021"/>
                </a:lnTo>
                <a:lnTo>
                  <a:pt x="214685" y="116702"/>
                </a:lnTo>
                <a:lnTo>
                  <a:pt x="214685" y="116384"/>
                </a:lnTo>
                <a:lnTo>
                  <a:pt x="214685" y="116066"/>
                </a:lnTo>
                <a:lnTo>
                  <a:pt x="214685" y="115748"/>
                </a:lnTo>
                <a:lnTo>
                  <a:pt x="214685" y="115428"/>
                </a:lnTo>
                <a:lnTo>
                  <a:pt x="214239" y="115428"/>
                </a:lnTo>
                <a:lnTo>
                  <a:pt x="213796" y="115428"/>
                </a:lnTo>
                <a:lnTo>
                  <a:pt x="213355" y="115428"/>
                </a:lnTo>
                <a:lnTo>
                  <a:pt x="212923" y="115428"/>
                </a:lnTo>
                <a:lnTo>
                  <a:pt x="212497" y="115428"/>
                </a:lnTo>
                <a:lnTo>
                  <a:pt x="212083" y="115428"/>
                </a:lnTo>
                <a:lnTo>
                  <a:pt x="211680" y="115428"/>
                </a:lnTo>
                <a:lnTo>
                  <a:pt x="211291" y="115428"/>
                </a:lnTo>
                <a:lnTo>
                  <a:pt x="211291" y="115622"/>
                </a:lnTo>
                <a:lnTo>
                  <a:pt x="211291" y="115815"/>
                </a:lnTo>
                <a:lnTo>
                  <a:pt x="211291" y="116013"/>
                </a:lnTo>
                <a:lnTo>
                  <a:pt x="211291" y="116215"/>
                </a:lnTo>
                <a:lnTo>
                  <a:pt x="211291" y="116427"/>
                </a:lnTo>
                <a:lnTo>
                  <a:pt x="211291" y="116647"/>
                </a:lnTo>
                <a:lnTo>
                  <a:pt x="211291" y="116881"/>
                </a:lnTo>
                <a:lnTo>
                  <a:pt x="211291" y="117127"/>
                </a:lnTo>
                <a:lnTo>
                  <a:pt x="210845" y="117127"/>
                </a:lnTo>
                <a:lnTo>
                  <a:pt x="210402" y="117127"/>
                </a:lnTo>
                <a:lnTo>
                  <a:pt x="209962" y="117127"/>
                </a:lnTo>
                <a:lnTo>
                  <a:pt x="209530" y="117127"/>
                </a:lnTo>
                <a:lnTo>
                  <a:pt x="209103" y="117127"/>
                </a:lnTo>
                <a:lnTo>
                  <a:pt x="208689" y="117127"/>
                </a:lnTo>
                <a:lnTo>
                  <a:pt x="208285" y="117127"/>
                </a:lnTo>
                <a:lnTo>
                  <a:pt x="207897" y="117127"/>
                </a:lnTo>
                <a:lnTo>
                  <a:pt x="207967" y="117764"/>
                </a:lnTo>
                <a:lnTo>
                  <a:pt x="208053" y="118400"/>
                </a:lnTo>
                <a:lnTo>
                  <a:pt x="208149" y="119037"/>
                </a:lnTo>
                <a:lnTo>
                  <a:pt x="208257" y="119673"/>
                </a:lnTo>
                <a:lnTo>
                  <a:pt x="208371" y="120310"/>
                </a:lnTo>
                <a:lnTo>
                  <a:pt x="208492" y="120946"/>
                </a:lnTo>
                <a:lnTo>
                  <a:pt x="208617" y="121583"/>
                </a:lnTo>
                <a:lnTo>
                  <a:pt x="208745" y="122219"/>
                </a:lnTo>
                <a:lnTo>
                  <a:pt x="208935" y="122219"/>
                </a:lnTo>
                <a:lnTo>
                  <a:pt x="209128" y="122219"/>
                </a:lnTo>
                <a:lnTo>
                  <a:pt x="209326" y="122219"/>
                </a:lnTo>
                <a:lnTo>
                  <a:pt x="209530" y="122219"/>
                </a:lnTo>
                <a:lnTo>
                  <a:pt x="209740" y="122219"/>
                </a:lnTo>
                <a:lnTo>
                  <a:pt x="209962" y="122219"/>
                </a:lnTo>
                <a:lnTo>
                  <a:pt x="210194" y="122219"/>
                </a:lnTo>
                <a:lnTo>
                  <a:pt x="210442" y="122219"/>
                </a:lnTo>
                <a:lnTo>
                  <a:pt x="210376" y="122610"/>
                </a:lnTo>
                <a:lnTo>
                  <a:pt x="210313" y="123013"/>
                </a:lnTo>
                <a:lnTo>
                  <a:pt x="210250" y="123429"/>
                </a:lnTo>
                <a:lnTo>
                  <a:pt x="210187" y="123853"/>
                </a:lnTo>
                <a:lnTo>
                  <a:pt x="210122" y="124287"/>
                </a:lnTo>
                <a:lnTo>
                  <a:pt x="210059" y="124726"/>
                </a:lnTo>
                <a:lnTo>
                  <a:pt x="209996" y="125169"/>
                </a:lnTo>
                <a:lnTo>
                  <a:pt x="209933" y="125613"/>
                </a:lnTo>
                <a:lnTo>
                  <a:pt x="209550" y="125806"/>
                </a:lnTo>
                <a:lnTo>
                  <a:pt x="209170" y="126000"/>
                </a:lnTo>
                <a:lnTo>
                  <a:pt x="208795" y="126198"/>
                </a:lnTo>
                <a:lnTo>
                  <a:pt x="208426" y="126400"/>
                </a:lnTo>
                <a:lnTo>
                  <a:pt x="208064" y="126612"/>
                </a:lnTo>
                <a:lnTo>
                  <a:pt x="207713" y="126832"/>
                </a:lnTo>
                <a:lnTo>
                  <a:pt x="207374" y="127066"/>
                </a:lnTo>
                <a:lnTo>
                  <a:pt x="207049" y="127311"/>
                </a:lnTo>
                <a:lnTo>
                  <a:pt x="207239" y="126748"/>
                </a:lnTo>
                <a:lnTo>
                  <a:pt x="207432" y="126196"/>
                </a:lnTo>
                <a:lnTo>
                  <a:pt x="207629" y="125657"/>
                </a:lnTo>
                <a:lnTo>
                  <a:pt x="207833" y="125127"/>
                </a:lnTo>
                <a:lnTo>
                  <a:pt x="208043" y="124607"/>
                </a:lnTo>
                <a:lnTo>
                  <a:pt x="208265" y="124090"/>
                </a:lnTo>
                <a:lnTo>
                  <a:pt x="208497" y="123579"/>
                </a:lnTo>
                <a:lnTo>
                  <a:pt x="208745" y="123068"/>
                </a:lnTo>
                <a:lnTo>
                  <a:pt x="206615" y="123336"/>
                </a:lnTo>
                <a:lnTo>
                  <a:pt x="204987" y="123554"/>
                </a:lnTo>
                <a:lnTo>
                  <a:pt x="203735" y="123800"/>
                </a:lnTo>
                <a:lnTo>
                  <a:pt x="202742" y="124150"/>
                </a:lnTo>
                <a:lnTo>
                  <a:pt x="201881" y="124685"/>
                </a:lnTo>
                <a:lnTo>
                  <a:pt x="201036" y="125479"/>
                </a:lnTo>
                <a:lnTo>
                  <a:pt x="200082" y="126613"/>
                </a:lnTo>
                <a:lnTo>
                  <a:pt x="198902" y="128160"/>
                </a:lnTo>
                <a:lnTo>
                  <a:pt x="198965" y="128415"/>
                </a:lnTo>
                <a:lnTo>
                  <a:pt x="199028" y="128670"/>
                </a:lnTo>
                <a:lnTo>
                  <a:pt x="199091" y="128926"/>
                </a:lnTo>
                <a:lnTo>
                  <a:pt x="199156" y="129179"/>
                </a:lnTo>
                <a:lnTo>
                  <a:pt x="199219" y="129434"/>
                </a:lnTo>
                <a:lnTo>
                  <a:pt x="199282" y="129689"/>
                </a:lnTo>
                <a:lnTo>
                  <a:pt x="199345" y="129944"/>
                </a:lnTo>
                <a:lnTo>
                  <a:pt x="199411" y="130196"/>
                </a:lnTo>
                <a:lnTo>
                  <a:pt x="199799" y="130262"/>
                </a:lnTo>
                <a:lnTo>
                  <a:pt x="200203" y="130325"/>
                </a:lnTo>
                <a:lnTo>
                  <a:pt x="200618" y="130389"/>
                </a:lnTo>
                <a:lnTo>
                  <a:pt x="201044" y="130452"/>
                </a:lnTo>
                <a:lnTo>
                  <a:pt x="201476" y="130517"/>
                </a:lnTo>
                <a:lnTo>
                  <a:pt x="201916" y="130580"/>
                </a:lnTo>
                <a:lnTo>
                  <a:pt x="202359" y="130643"/>
                </a:lnTo>
                <a:lnTo>
                  <a:pt x="202806" y="130706"/>
                </a:lnTo>
                <a:lnTo>
                  <a:pt x="202806" y="131217"/>
                </a:lnTo>
                <a:lnTo>
                  <a:pt x="202806" y="131728"/>
                </a:lnTo>
                <a:lnTo>
                  <a:pt x="202806" y="132245"/>
                </a:lnTo>
                <a:lnTo>
                  <a:pt x="202806" y="132765"/>
                </a:lnTo>
                <a:lnTo>
                  <a:pt x="202806" y="133295"/>
                </a:lnTo>
                <a:lnTo>
                  <a:pt x="202806" y="133834"/>
                </a:lnTo>
                <a:lnTo>
                  <a:pt x="202806" y="134386"/>
                </a:lnTo>
                <a:lnTo>
                  <a:pt x="202806" y="134950"/>
                </a:lnTo>
                <a:lnTo>
                  <a:pt x="202168" y="134887"/>
                </a:lnTo>
                <a:lnTo>
                  <a:pt x="201532" y="134823"/>
                </a:lnTo>
                <a:lnTo>
                  <a:pt x="200896" y="134760"/>
                </a:lnTo>
                <a:lnTo>
                  <a:pt x="200259" y="134695"/>
                </a:lnTo>
                <a:lnTo>
                  <a:pt x="199623" y="134632"/>
                </a:lnTo>
                <a:lnTo>
                  <a:pt x="198987" y="134569"/>
                </a:lnTo>
                <a:lnTo>
                  <a:pt x="198350" y="134506"/>
                </a:lnTo>
                <a:lnTo>
                  <a:pt x="197714" y="134440"/>
                </a:lnTo>
                <a:lnTo>
                  <a:pt x="197471" y="136246"/>
                </a:lnTo>
                <a:lnTo>
                  <a:pt x="197148" y="138089"/>
                </a:lnTo>
                <a:lnTo>
                  <a:pt x="196774" y="139960"/>
                </a:lnTo>
                <a:lnTo>
                  <a:pt x="196378" y="141847"/>
                </a:lnTo>
                <a:lnTo>
                  <a:pt x="195988" y="143744"/>
                </a:lnTo>
                <a:lnTo>
                  <a:pt x="195637" y="145638"/>
                </a:lnTo>
                <a:lnTo>
                  <a:pt x="195353" y="147520"/>
                </a:lnTo>
                <a:lnTo>
                  <a:pt x="195168" y="149378"/>
                </a:lnTo>
                <a:lnTo>
                  <a:pt x="192869" y="150401"/>
                </a:lnTo>
                <a:lnTo>
                  <a:pt x="190282" y="152620"/>
                </a:lnTo>
                <a:lnTo>
                  <a:pt x="187560" y="155724"/>
                </a:lnTo>
                <a:lnTo>
                  <a:pt x="184857" y="159394"/>
                </a:lnTo>
                <a:lnTo>
                  <a:pt x="182329" y="163321"/>
                </a:lnTo>
                <a:lnTo>
                  <a:pt x="180132" y="167186"/>
                </a:lnTo>
                <a:lnTo>
                  <a:pt x="178419" y="170680"/>
                </a:lnTo>
                <a:lnTo>
                  <a:pt x="177349" y="173482"/>
                </a:lnTo>
                <a:lnTo>
                  <a:pt x="175590" y="174600"/>
                </a:lnTo>
                <a:lnTo>
                  <a:pt x="173468" y="176749"/>
                </a:lnTo>
                <a:lnTo>
                  <a:pt x="171127" y="179658"/>
                </a:lnTo>
                <a:lnTo>
                  <a:pt x="168714" y="183053"/>
                </a:lnTo>
                <a:lnTo>
                  <a:pt x="166371" y="186664"/>
                </a:lnTo>
                <a:lnTo>
                  <a:pt x="164246" y="190217"/>
                </a:lnTo>
                <a:lnTo>
                  <a:pt x="162482" y="193440"/>
                </a:lnTo>
                <a:lnTo>
                  <a:pt x="161226" y="196059"/>
                </a:lnTo>
                <a:lnTo>
                  <a:pt x="160978" y="196059"/>
                </a:lnTo>
                <a:lnTo>
                  <a:pt x="160745" y="196059"/>
                </a:lnTo>
                <a:lnTo>
                  <a:pt x="160523" y="196059"/>
                </a:lnTo>
                <a:lnTo>
                  <a:pt x="160313" y="196059"/>
                </a:lnTo>
                <a:lnTo>
                  <a:pt x="160109" y="196059"/>
                </a:lnTo>
                <a:lnTo>
                  <a:pt x="159912" y="196059"/>
                </a:lnTo>
                <a:lnTo>
                  <a:pt x="159719" y="196059"/>
                </a:lnTo>
                <a:lnTo>
                  <a:pt x="159529" y="196059"/>
                </a:lnTo>
                <a:lnTo>
                  <a:pt x="159847" y="195177"/>
                </a:lnTo>
                <a:lnTo>
                  <a:pt x="160165" y="194306"/>
                </a:lnTo>
                <a:lnTo>
                  <a:pt x="160483" y="193450"/>
                </a:lnTo>
                <a:lnTo>
                  <a:pt x="160801" y="192601"/>
                </a:lnTo>
                <a:lnTo>
                  <a:pt x="161119" y="191763"/>
                </a:lnTo>
                <a:lnTo>
                  <a:pt x="161437" y="190928"/>
                </a:lnTo>
                <a:lnTo>
                  <a:pt x="161756" y="190099"/>
                </a:lnTo>
                <a:lnTo>
                  <a:pt x="162075" y="189269"/>
                </a:lnTo>
                <a:lnTo>
                  <a:pt x="162265" y="189269"/>
                </a:lnTo>
                <a:lnTo>
                  <a:pt x="162458" y="189269"/>
                </a:lnTo>
                <a:lnTo>
                  <a:pt x="162655" y="189269"/>
                </a:lnTo>
                <a:lnTo>
                  <a:pt x="162859" y="189269"/>
                </a:lnTo>
                <a:lnTo>
                  <a:pt x="163069" y="189269"/>
                </a:lnTo>
                <a:lnTo>
                  <a:pt x="163291" y="189269"/>
                </a:lnTo>
                <a:lnTo>
                  <a:pt x="163523" y="189269"/>
                </a:lnTo>
                <a:lnTo>
                  <a:pt x="163772" y="189269"/>
                </a:lnTo>
                <a:lnTo>
                  <a:pt x="163842" y="188507"/>
                </a:lnTo>
                <a:lnTo>
                  <a:pt x="163928" y="187745"/>
                </a:lnTo>
                <a:lnTo>
                  <a:pt x="164024" y="186988"/>
                </a:lnTo>
                <a:lnTo>
                  <a:pt x="164132" y="186236"/>
                </a:lnTo>
                <a:lnTo>
                  <a:pt x="164246" y="185493"/>
                </a:lnTo>
                <a:lnTo>
                  <a:pt x="164367" y="184759"/>
                </a:lnTo>
                <a:lnTo>
                  <a:pt x="164492" y="184038"/>
                </a:lnTo>
                <a:lnTo>
                  <a:pt x="164620" y="183328"/>
                </a:lnTo>
                <a:lnTo>
                  <a:pt x="160991" y="185196"/>
                </a:lnTo>
                <a:lnTo>
                  <a:pt x="158290" y="186842"/>
                </a:lnTo>
                <a:lnTo>
                  <a:pt x="156370" y="188446"/>
                </a:lnTo>
                <a:lnTo>
                  <a:pt x="155095" y="190182"/>
                </a:lnTo>
                <a:lnTo>
                  <a:pt x="154318" y="192229"/>
                </a:lnTo>
                <a:lnTo>
                  <a:pt x="153903" y="194763"/>
                </a:lnTo>
                <a:lnTo>
                  <a:pt x="153706" y="197961"/>
                </a:lnTo>
                <a:lnTo>
                  <a:pt x="153589" y="202000"/>
                </a:lnTo>
                <a:lnTo>
                  <a:pt x="152460" y="202674"/>
                </a:lnTo>
                <a:lnTo>
                  <a:pt x="151573" y="203186"/>
                </a:lnTo>
                <a:lnTo>
                  <a:pt x="150844" y="203569"/>
                </a:lnTo>
                <a:lnTo>
                  <a:pt x="150194" y="203847"/>
                </a:lnTo>
                <a:lnTo>
                  <a:pt x="149544" y="204056"/>
                </a:lnTo>
                <a:lnTo>
                  <a:pt x="148816" y="204221"/>
                </a:lnTo>
                <a:lnTo>
                  <a:pt x="147927" y="204376"/>
                </a:lnTo>
                <a:lnTo>
                  <a:pt x="146801" y="204546"/>
                </a:lnTo>
                <a:lnTo>
                  <a:pt x="146675" y="206371"/>
                </a:lnTo>
                <a:lnTo>
                  <a:pt x="146340" y="208054"/>
                </a:lnTo>
                <a:lnTo>
                  <a:pt x="145859" y="209651"/>
                </a:lnTo>
                <a:lnTo>
                  <a:pt x="145294" y="211210"/>
                </a:lnTo>
                <a:lnTo>
                  <a:pt x="144703" y="212787"/>
                </a:lnTo>
                <a:lnTo>
                  <a:pt x="144150" y="214430"/>
                </a:lnTo>
                <a:lnTo>
                  <a:pt x="143696" y="216193"/>
                </a:lnTo>
                <a:lnTo>
                  <a:pt x="143406" y="218126"/>
                </a:lnTo>
                <a:lnTo>
                  <a:pt x="143724" y="218126"/>
                </a:lnTo>
                <a:lnTo>
                  <a:pt x="144042" y="218126"/>
                </a:lnTo>
                <a:lnTo>
                  <a:pt x="144361" y="218126"/>
                </a:lnTo>
                <a:lnTo>
                  <a:pt x="144679" y="218126"/>
                </a:lnTo>
                <a:lnTo>
                  <a:pt x="144997" y="218126"/>
                </a:lnTo>
                <a:lnTo>
                  <a:pt x="145315" y="218126"/>
                </a:lnTo>
                <a:lnTo>
                  <a:pt x="145633" y="218126"/>
                </a:lnTo>
                <a:lnTo>
                  <a:pt x="145952" y="218126"/>
                </a:lnTo>
                <a:lnTo>
                  <a:pt x="146979" y="216085"/>
                </a:lnTo>
                <a:lnTo>
                  <a:pt x="147905" y="214361"/>
                </a:lnTo>
                <a:lnTo>
                  <a:pt x="148740" y="212876"/>
                </a:lnTo>
                <a:lnTo>
                  <a:pt x="149494" y="211549"/>
                </a:lnTo>
                <a:lnTo>
                  <a:pt x="150174" y="210303"/>
                </a:lnTo>
                <a:lnTo>
                  <a:pt x="150796" y="209056"/>
                </a:lnTo>
                <a:lnTo>
                  <a:pt x="151364" y="207730"/>
                </a:lnTo>
                <a:lnTo>
                  <a:pt x="151892" y="206243"/>
                </a:lnTo>
                <a:lnTo>
                  <a:pt x="152400" y="206243"/>
                </a:lnTo>
                <a:lnTo>
                  <a:pt x="152912" y="206243"/>
                </a:lnTo>
                <a:lnTo>
                  <a:pt x="153427" y="206243"/>
                </a:lnTo>
                <a:lnTo>
                  <a:pt x="153949" y="206243"/>
                </a:lnTo>
                <a:lnTo>
                  <a:pt x="154477" y="206243"/>
                </a:lnTo>
                <a:lnTo>
                  <a:pt x="155018" y="206243"/>
                </a:lnTo>
                <a:lnTo>
                  <a:pt x="155569" y="206243"/>
                </a:lnTo>
                <a:lnTo>
                  <a:pt x="156135" y="206243"/>
                </a:lnTo>
                <a:lnTo>
                  <a:pt x="155709" y="207800"/>
                </a:lnTo>
                <a:lnTo>
                  <a:pt x="154577" y="209844"/>
                </a:lnTo>
                <a:lnTo>
                  <a:pt x="152956" y="212258"/>
                </a:lnTo>
                <a:lnTo>
                  <a:pt x="151064" y="214923"/>
                </a:lnTo>
                <a:lnTo>
                  <a:pt x="149114" y="217725"/>
                </a:lnTo>
                <a:lnTo>
                  <a:pt x="147327" y="220543"/>
                </a:lnTo>
                <a:lnTo>
                  <a:pt x="145916" y="223263"/>
                </a:lnTo>
                <a:lnTo>
                  <a:pt x="145103" y="225765"/>
                </a:lnTo>
                <a:lnTo>
                  <a:pt x="144785" y="225765"/>
                </a:lnTo>
                <a:lnTo>
                  <a:pt x="144467" y="225765"/>
                </a:lnTo>
                <a:lnTo>
                  <a:pt x="144148" y="225765"/>
                </a:lnTo>
                <a:lnTo>
                  <a:pt x="143830" y="225765"/>
                </a:lnTo>
                <a:lnTo>
                  <a:pt x="143512" y="225765"/>
                </a:lnTo>
                <a:lnTo>
                  <a:pt x="143194" y="225765"/>
                </a:lnTo>
                <a:lnTo>
                  <a:pt x="142876" y="225765"/>
                </a:lnTo>
                <a:lnTo>
                  <a:pt x="142558" y="225765"/>
                </a:lnTo>
                <a:lnTo>
                  <a:pt x="141290" y="230630"/>
                </a:lnTo>
                <a:lnTo>
                  <a:pt x="139271" y="235844"/>
                </a:lnTo>
                <a:lnTo>
                  <a:pt x="136682" y="241282"/>
                </a:lnTo>
                <a:lnTo>
                  <a:pt x="133711" y="246814"/>
                </a:lnTo>
                <a:lnTo>
                  <a:pt x="130539" y="252315"/>
                </a:lnTo>
                <a:lnTo>
                  <a:pt x="127355" y="257657"/>
                </a:lnTo>
                <a:lnTo>
                  <a:pt x="124340" y="262712"/>
                </a:lnTo>
                <a:lnTo>
                  <a:pt x="121683" y="267352"/>
                </a:lnTo>
                <a:lnTo>
                  <a:pt x="120073" y="275795"/>
                </a:lnTo>
                <a:lnTo>
                  <a:pt x="117218" y="283582"/>
                </a:lnTo>
                <a:lnTo>
                  <a:pt x="113205" y="290571"/>
                </a:lnTo>
                <a:lnTo>
                  <a:pt x="108126" y="296613"/>
                </a:lnTo>
                <a:lnTo>
                  <a:pt x="102066" y="301567"/>
                </a:lnTo>
                <a:lnTo>
                  <a:pt x="95120" y="305284"/>
                </a:lnTo>
                <a:lnTo>
                  <a:pt x="87371" y="307621"/>
                </a:lnTo>
                <a:lnTo>
                  <a:pt x="78915" y="308432"/>
                </a:lnTo>
                <a:close/>
                <a:moveTo>
                  <a:pt x="72127" y="225255"/>
                </a:moveTo>
                <a:lnTo>
                  <a:pt x="71677" y="224580"/>
                </a:lnTo>
                <a:lnTo>
                  <a:pt x="71336" y="224039"/>
                </a:lnTo>
                <a:lnTo>
                  <a:pt x="71082" y="223583"/>
                </a:lnTo>
                <a:lnTo>
                  <a:pt x="70897" y="223156"/>
                </a:lnTo>
                <a:lnTo>
                  <a:pt x="70757" y="222705"/>
                </a:lnTo>
                <a:lnTo>
                  <a:pt x="70647" y="222177"/>
                </a:lnTo>
                <a:lnTo>
                  <a:pt x="70544" y="221519"/>
                </a:lnTo>
                <a:lnTo>
                  <a:pt x="70430" y="220672"/>
                </a:lnTo>
                <a:lnTo>
                  <a:pt x="70939" y="220745"/>
                </a:lnTo>
                <a:lnTo>
                  <a:pt x="71450" y="220830"/>
                </a:lnTo>
                <a:lnTo>
                  <a:pt x="71965" y="220928"/>
                </a:lnTo>
                <a:lnTo>
                  <a:pt x="72487" y="221034"/>
                </a:lnTo>
                <a:lnTo>
                  <a:pt x="73016" y="221150"/>
                </a:lnTo>
                <a:lnTo>
                  <a:pt x="73556" y="221271"/>
                </a:lnTo>
                <a:lnTo>
                  <a:pt x="74106" y="221396"/>
                </a:lnTo>
                <a:lnTo>
                  <a:pt x="74672" y="221521"/>
                </a:lnTo>
                <a:lnTo>
                  <a:pt x="74544" y="221968"/>
                </a:lnTo>
                <a:lnTo>
                  <a:pt x="74419" y="222415"/>
                </a:lnTo>
                <a:lnTo>
                  <a:pt x="74298" y="222869"/>
                </a:lnTo>
                <a:lnTo>
                  <a:pt x="74184" y="223325"/>
                </a:lnTo>
                <a:lnTo>
                  <a:pt x="74076" y="223792"/>
                </a:lnTo>
                <a:lnTo>
                  <a:pt x="73980" y="224268"/>
                </a:lnTo>
                <a:lnTo>
                  <a:pt x="73894" y="224755"/>
                </a:lnTo>
                <a:lnTo>
                  <a:pt x="73824" y="225255"/>
                </a:lnTo>
                <a:lnTo>
                  <a:pt x="73576" y="225255"/>
                </a:lnTo>
                <a:lnTo>
                  <a:pt x="73344" y="225255"/>
                </a:lnTo>
                <a:lnTo>
                  <a:pt x="73122" y="225255"/>
                </a:lnTo>
                <a:lnTo>
                  <a:pt x="72912" y="225255"/>
                </a:lnTo>
                <a:lnTo>
                  <a:pt x="72708" y="225255"/>
                </a:lnTo>
                <a:lnTo>
                  <a:pt x="72510" y="225255"/>
                </a:lnTo>
                <a:lnTo>
                  <a:pt x="72317" y="225255"/>
                </a:lnTo>
                <a:lnTo>
                  <a:pt x="72127" y="225255"/>
                </a:lnTo>
                <a:close/>
                <a:moveTo>
                  <a:pt x="146801" y="193004"/>
                </a:moveTo>
                <a:lnTo>
                  <a:pt x="146553" y="192758"/>
                </a:lnTo>
                <a:lnTo>
                  <a:pt x="146319" y="192524"/>
                </a:lnTo>
                <a:lnTo>
                  <a:pt x="146097" y="192304"/>
                </a:lnTo>
                <a:lnTo>
                  <a:pt x="145887" y="192092"/>
                </a:lnTo>
                <a:lnTo>
                  <a:pt x="145683" y="191890"/>
                </a:lnTo>
                <a:lnTo>
                  <a:pt x="145486" y="191692"/>
                </a:lnTo>
                <a:lnTo>
                  <a:pt x="145293" y="191499"/>
                </a:lnTo>
                <a:lnTo>
                  <a:pt x="145103" y="191306"/>
                </a:lnTo>
                <a:lnTo>
                  <a:pt x="145421" y="190608"/>
                </a:lnTo>
                <a:lnTo>
                  <a:pt x="145739" y="189909"/>
                </a:lnTo>
                <a:lnTo>
                  <a:pt x="146057" y="189216"/>
                </a:lnTo>
                <a:lnTo>
                  <a:pt x="146376" y="188528"/>
                </a:lnTo>
                <a:lnTo>
                  <a:pt x="146694" y="187848"/>
                </a:lnTo>
                <a:lnTo>
                  <a:pt x="147012" y="187178"/>
                </a:lnTo>
                <a:lnTo>
                  <a:pt x="147330" y="186520"/>
                </a:lnTo>
                <a:lnTo>
                  <a:pt x="147649" y="185874"/>
                </a:lnTo>
                <a:lnTo>
                  <a:pt x="148037" y="185874"/>
                </a:lnTo>
                <a:lnTo>
                  <a:pt x="148441" y="185874"/>
                </a:lnTo>
                <a:lnTo>
                  <a:pt x="148856" y="185874"/>
                </a:lnTo>
                <a:lnTo>
                  <a:pt x="149282" y="185874"/>
                </a:lnTo>
                <a:lnTo>
                  <a:pt x="149714" y="185874"/>
                </a:lnTo>
                <a:lnTo>
                  <a:pt x="150154" y="185874"/>
                </a:lnTo>
                <a:lnTo>
                  <a:pt x="150597" y="185874"/>
                </a:lnTo>
                <a:lnTo>
                  <a:pt x="151044" y="185874"/>
                </a:lnTo>
                <a:lnTo>
                  <a:pt x="150031" y="188117"/>
                </a:lnTo>
                <a:lnTo>
                  <a:pt x="149258" y="189806"/>
                </a:lnTo>
                <a:lnTo>
                  <a:pt x="148671" y="191026"/>
                </a:lnTo>
                <a:lnTo>
                  <a:pt x="148221" y="191859"/>
                </a:lnTo>
                <a:lnTo>
                  <a:pt x="147858" y="192390"/>
                </a:lnTo>
                <a:lnTo>
                  <a:pt x="147534" y="192702"/>
                </a:lnTo>
                <a:lnTo>
                  <a:pt x="147197" y="192880"/>
                </a:lnTo>
                <a:lnTo>
                  <a:pt x="146801" y="193004"/>
                </a:lnTo>
                <a:close/>
                <a:moveTo>
                  <a:pt x="165468" y="182479"/>
                </a:moveTo>
                <a:lnTo>
                  <a:pt x="166051" y="180737"/>
                </a:lnTo>
                <a:lnTo>
                  <a:pt x="166568" y="178976"/>
                </a:lnTo>
                <a:lnTo>
                  <a:pt x="167081" y="177244"/>
                </a:lnTo>
                <a:lnTo>
                  <a:pt x="167653" y="175584"/>
                </a:lnTo>
                <a:lnTo>
                  <a:pt x="168343" y="174045"/>
                </a:lnTo>
                <a:lnTo>
                  <a:pt x="169214" y="172669"/>
                </a:lnTo>
                <a:lnTo>
                  <a:pt x="170328" y="171505"/>
                </a:lnTo>
                <a:lnTo>
                  <a:pt x="171748" y="170596"/>
                </a:lnTo>
                <a:lnTo>
                  <a:pt x="171811" y="170152"/>
                </a:lnTo>
                <a:lnTo>
                  <a:pt x="171874" y="169709"/>
                </a:lnTo>
                <a:lnTo>
                  <a:pt x="171937" y="169271"/>
                </a:lnTo>
                <a:lnTo>
                  <a:pt x="172002" y="168836"/>
                </a:lnTo>
                <a:lnTo>
                  <a:pt x="172065" y="168412"/>
                </a:lnTo>
                <a:lnTo>
                  <a:pt x="172128" y="167996"/>
                </a:lnTo>
                <a:lnTo>
                  <a:pt x="172191" y="167593"/>
                </a:lnTo>
                <a:lnTo>
                  <a:pt x="172257" y="167202"/>
                </a:lnTo>
                <a:lnTo>
                  <a:pt x="172964" y="166957"/>
                </a:lnTo>
                <a:lnTo>
                  <a:pt x="173686" y="166723"/>
                </a:lnTo>
                <a:lnTo>
                  <a:pt x="174418" y="166503"/>
                </a:lnTo>
                <a:lnTo>
                  <a:pt x="175163" y="166291"/>
                </a:lnTo>
                <a:lnTo>
                  <a:pt x="175913" y="166088"/>
                </a:lnTo>
                <a:lnTo>
                  <a:pt x="176671" y="165890"/>
                </a:lnTo>
                <a:lnTo>
                  <a:pt x="177433" y="165697"/>
                </a:lnTo>
                <a:lnTo>
                  <a:pt x="178197" y="165504"/>
                </a:lnTo>
                <a:lnTo>
                  <a:pt x="177141" y="167161"/>
                </a:lnTo>
                <a:lnTo>
                  <a:pt x="175801" y="169423"/>
                </a:lnTo>
                <a:lnTo>
                  <a:pt x="174242" y="172055"/>
                </a:lnTo>
                <a:lnTo>
                  <a:pt x="172532" y="174820"/>
                </a:lnTo>
                <a:lnTo>
                  <a:pt x="170732" y="177483"/>
                </a:lnTo>
                <a:lnTo>
                  <a:pt x="168912" y="179804"/>
                </a:lnTo>
                <a:lnTo>
                  <a:pt x="167135" y="181549"/>
                </a:lnTo>
                <a:lnTo>
                  <a:pt x="165468" y="182479"/>
                </a:lnTo>
                <a:close/>
                <a:moveTo>
                  <a:pt x="155286" y="176537"/>
                </a:moveTo>
                <a:lnTo>
                  <a:pt x="155873" y="174521"/>
                </a:lnTo>
                <a:lnTo>
                  <a:pt x="156528" y="172680"/>
                </a:lnTo>
                <a:lnTo>
                  <a:pt x="157299" y="171034"/>
                </a:lnTo>
                <a:lnTo>
                  <a:pt x="158234" y="169600"/>
                </a:lnTo>
                <a:lnTo>
                  <a:pt x="159383" y="168398"/>
                </a:lnTo>
                <a:lnTo>
                  <a:pt x="160797" y="167444"/>
                </a:lnTo>
                <a:lnTo>
                  <a:pt x="162526" y="166757"/>
                </a:lnTo>
                <a:lnTo>
                  <a:pt x="164620" y="166353"/>
                </a:lnTo>
                <a:lnTo>
                  <a:pt x="163975" y="168177"/>
                </a:lnTo>
                <a:lnTo>
                  <a:pt x="163185" y="169926"/>
                </a:lnTo>
                <a:lnTo>
                  <a:pt x="162248" y="171561"/>
                </a:lnTo>
                <a:lnTo>
                  <a:pt x="161162" y="173037"/>
                </a:lnTo>
                <a:lnTo>
                  <a:pt x="159924" y="174316"/>
                </a:lnTo>
                <a:lnTo>
                  <a:pt x="158533" y="175354"/>
                </a:lnTo>
                <a:lnTo>
                  <a:pt x="156987" y="176109"/>
                </a:lnTo>
                <a:lnTo>
                  <a:pt x="155286" y="176537"/>
                </a:lnTo>
                <a:close/>
                <a:moveTo>
                  <a:pt x="148497" y="166693"/>
                </a:moveTo>
                <a:lnTo>
                  <a:pt x="148330" y="165736"/>
                </a:lnTo>
                <a:lnTo>
                  <a:pt x="148223" y="164986"/>
                </a:lnTo>
                <a:lnTo>
                  <a:pt x="148183" y="164378"/>
                </a:lnTo>
                <a:lnTo>
                  <a:pt x="148221" y="163850"/>
                </a:lnTo>
                <a:lnTo>
                  <a:pt x="148345" y="163339"/>
                </a:lnTo>
                <a:lnTo>
                  <a:pt x="148568" y="162778"/>
                </a:lnTo>
                <a:lnTo>
                  <a:pt x="148897" y="162108"/>
                </a:lnTo>
                <a:lnTo>
                  <a:pt x="149346" y="161260"/>
                </a:lnTo>
                <a:lnTo>
                  <a:pt x="149671" y="161135"/>
                </a:lnTo>
                <a:lnTo>
                  <a:pt x="150010" y="161010"/>
                </a:lnTo>
                <a:lnTo>
                  <a:pt x="150361" y="160890"/>
                </a:lnTo>
                <a:lnTo>
                  <a:pt x="150725" y="160774"/>
                </a:lnTo>
                <a:lnTo>
                  <a:pt x="151094" y="160668"/>
                </a:lnTo>
                <a:lnTo>
                  <a:pt x="151469" y="160570"/>
                </a:lnTo>
                <a:lnTo>
                  <a:pt x="151848" y="160485"/>
                </a:lnTo>
                <a:lnTo>
                  <a:pt x="152231" y="160412"/>
                </a:lnTo>
                <a:lnTo>
                  <a:pt x="152294" y="160093"/>
                </a:lnTo>
                <a:lnTo>
                  <a:pt x="152357" y="159775"/>
                </a:lnTo>
                <a:lnTo>
                  <a:pt x="152420" y="159457"/>
                </a:lnTo>
                <a:lnTo>
                  <a:pt x="152485" y="159139"/>
                </a:lnTo>
                <a:lnTo>
                  <a:pt x="152548" y="158821"/>
                </a:lnTo>
                <a:lnTo>
                  <a:pt x="152611" y="158502"/>
                </a:lnTo>
                <a:lnTo>
                  <a:pt x="152674" y="158184"/>
                </a:lnTo>
                <a:lnTo>
                  <a:pt x="152740" y="157866"/>
                </a:lnTo>
                <a:lnTo>
                  <a:pt x="153066" y="157939"/>
                </a:lnTo>
                <a:lnTo>
                  <a:pt x="153405" y="158023"/>
                </a:lnTo>
                <a:lnTo>
                  <a:pt x="153756" y="158121"/>
                </a:lnTo>
                <a:lnTo>
                  <a:pt x="154119" y="158227"/>
                </a:lnTo>
                <a:lnTo>
                  <a:pt x="154488" y="158343"/>
                </a:lnTo>
                <a:lnTo>
                  <a:pt x="154863" y="158463"/>
                </a:lnTo>
                <a:lnTo>
                  <a:pt x="155243" y="158588"/>
                </a:lnTo>
                <a:lnTo>
                  <a:pt x="155626" y="158715"/>
                </a:lnTo>
                <a:lnTo>
                  <a:pt x="154973" y="160157"/>
                </a:lnTo>
                <a:lnTo>
                  <a:pt x="154303" y="161341"/>
                </a:lnTo>
                <a:lnTo>
                  <a:pt x="153625" y="162326"/>
                </a:lnTo>
                <a:lnTo>
                  <a:pt x="152952" y="163171"/>
                </a:lnTo>
                <a:lnTo>
                  <a:pt x="152292" y="163937"/>
                </a:lnTo>
                <a:lnTo>
                  <a:pt x="151663" y="164683"/>
                </a:lnTo>
                <a:lnTo>
                  <a:pt x="151072" y="165468"/>
                </a:lnTo>
                <a:lnTo>
                  <a:pt x="150534" y="166353"/>
                </a:lnTo>
                <a:lnTo>
                  <a:pt x="150279" y="166362"/>
                </a:lnTo>
                <a:lnTo>
                  <a:pt x="150024" y="166383"/>
                </a:lnTo>
                <a:lnTo>
                  <a:pt x="149769" y="166417"/>
                </a:lnTo>
                <a:lnTo>
                  <a:pt x="149515" y="166460"/>
                </a:lnTo>
                <a:lnTo>
                  <a:pt x="149260" y="166512"/>
                </a:lnTo>
                <a:lnTo>
                  <a:pt x="149005" y="166569"/>
                </a:lnTo>
                <a:lnTo>
                  <a:pt x="148750" y="166631"/>
                </a:lnTo>
                <a:lnTo>
                  <a:pt x="148497" y="166693"/>
                </a:lnTo>
                <a:close/>
                <a:moveTo>
                  <a:pt x="178197" y="162958"/>
                </a:moveTo>
                <a:lnTo>
                  <a:pt x="178348" y="161121"/>
                </a:lnTo>
                <a:lnTo>
                  <a:pt x="178772" y="159516"/>
                </a:lnTo>
                <a:lnTo>
                  <a:pt x="179422" y="158096"/>
                </a:lnTo>
                <a:lnTo>
                  <a:pt x="180254" y="156805"/>
                </a:lnTo>
                <a:lnTo>
                  <a:pt x="181220" y="155596"/>
                </a:lnTo>
                <a:lnTo>
                  <a:pt x="182277" y="154414"/>
                </a:lnTo>
                <a:lnTo>
                  <a:pt x="183377" y="153208"/>
                </a:lnTo>
                <a:lnTo>
                  <a:pt x="184476" y="151925"/>
                </a:lnTo>
                <a:lnTo>
                  <a:pt x="184666" y="152117"/>
                </a:lnTo>
                <a:lnTo>
                  <a:pt x="184859" y="152310"/>
                </a:lnTo>
                <a:lnTo>
                  <a:pt x="185056" y="152508"/>
                </a:lnTo>
                <a:lnTo>
                  <a:pt x="185260" y="152710"/>
                </a:lnTo>
                <a:lnTo>
                  <a:pt x="185471" y="152923"/>
                </a:lnTo>
                <a:lnTo>
                  <a:pt x="185693" y="153143"/>
                </a:lnTo>
                <a:lnTo>
                  <a:pt x="185926" y="153377"/>
                </a:lnTo>
                <a:lnTo>
                  <a:pt x="186174" y="153622"/>
                </a:lnTo>
                <a:lnTo>
                  <a:pt x="185371" y="154832"/>
                </a:lnTo>
                <a:lnTo>
                  <a:pt x="184592" y="156132"/>
                </a:lnTo>
                <a:lnTo>
                  <a:pt x="183798" y="157473"/>
                </a:lnTo>
                <a:lnTo>
                  <a:pt x="182948" y="158800"/>
                </a:lnTo>
                <a:lnTo>
                  <a:pt x="182002" y="160065"/>
                </a:lnTo>
                <a:lnTo>
                  <a:pt x="180922" y="161214"/>
                </a:lnTo>
                <a:lnTo>
                  <a:pt x="179667" y="162196"/>
                </a:lnTo>
                <a:lnTo>
                  <a:pt x="178197" y="162958"/>
                </a:lnTo>
                <a:close/>
                <a:moveTo>
                  <a:pt x="154437" y="125613"/>
                </a:moveTo>
                <a:lnTo>
                  <a:pt x="154755" y="124914"/>
                </a:lnTo>
                <a:lnTo>
                  <a:pt x="155074" y="124214"/>
                </a:lnTo>
                <a:lnTo>
                  <a:pt x="155392" y="123515"/>
                </a:lnTo>
                <a:lnTo>
                  <a:pt x="155710" y="122812"/>
                </a:lnTo>
                <a:lnTo>
                  <a:pt x="156028" y="122113"/>
                </a:lnTo>
                <a:lnTo>
                  <a:pt x="156346" y="121413"/>
                </a:lnTo>
                <a:lnTo>
                  <a:pt x="156664" y="120714"/>
                </a:lnTo>
                <a:lnTo>
                  <a:pt x="156983" y="120012"/>
                </a:lnTo>
                <a:lnTo>
                  <a:pt x="157302" y="119950"/>
                </a:lnTo>
                <a:lnTo>
                  <a:pt x="157620" y="119888"/>
                </a:lnTo>
                <a:lnTo>
                  <a:pt x="157938" y="119831"/>
                </a:lnTo>
                <a:lnTo>
                  <a:pt x="158256" y="119779"/>
                </a:lnTo>
                <a:lnTo>
                  <a:pt x="158574" y="119736"/>
                </a:lnTo>
                <a:lnTo>
                  <a:pt x="158892" y="119702"/>
                </a:lnTo>
                <a:lnTo>
                  <a:pt x="159210" y="119681"/>
                </a:lnTo>
                <a:lnTo>
                  <a:pt x="159529" y="119672"/>
                </a:lnTo>
                <a:lnTo>
                  <a:pt x="159071" y="120799"/>
                </a:lnTo>
                <a:lnTo>
                  <a:pt x="158684" y="121676"/>
                </a:lnTo>
                <a:lnTo>
                  <a:pt x="158304" y="122374"/>
                </a:lnTo>
                <a:lnTo>
                  <a:pt x="157874" y="122962"/>
                </a:lnTo>
                <a:lnTo>
                  <a:pt x="157330" y="123511"/>
                </a:lnTo>
                <a:lnTo>
                  <a:pt x="156616" y="124089"/>
                </a:lnTo>
                <a:lnTo>
                  <a:pt x="155671" y="124767"/>
                </a:lnTo>
                <a:lnTo>
                  <a:pt x="154437" y="125613"/>
                </a:lnTo>
                <a:close/>
                <a:moveTo>
                  <a:pt x="197714" y="121369"/>
                </a:moveTo>
                <a:lnTo>
                  <a:pt x="197904" y="120607"/>
                </a:lnTo>
                <a:lnTo>
                  <a:pt x="198097" y="119845"/>
                </a:lnTo>
                <a:lnTo>
                  <a:pt x="198294" y="119089"/>
                </a:lnTo>
                <a:lnTo>
                  <a:pt x="198499" y="118336"/>
                </a:lnTo>
                <a:lnTo>
                  <a:pt x="198709" y="117594"/>
                </a:lnTo>
                <a:lnTo>
                  <a:pt x="198931" y="116859"/>
                </a:lnTo>
                <a:lnTo>
                  <a:pt x="199163" y="116138"/>
                </a:lnTo>
                <a:lnTo>
                  <a:pt x="199411" y="115428"/>
                </a:lnTo>
                <a:lnTo>
                  <a:pt x="200252" y="115264"/>
                </a:lnTo>
                <a:lnTo>
                  <a:pt x="200901" y="115156"/>
                </a:lnTo>
                <a:lnTo>
                  <a:pt x="201397" y="115116"/>
                </a:lnTo>
                <a:lnTo>
                  <a:pt x="201786" y="115153"/>
                </a:lnTo>
                <a:lnTo>
                  <a:pt x="202110" y="115279"/>
                </a:lnTo>
                <a:lnTo>
                  <a:pt x="202417" y="115502"/>
                </a:lnTo>
                <a:lnTo>
                  <a:pt x="202747" y="115831"/>
                </a:lnTo>
                <a:lnTo>
                  <a:pt x="203145" y="116277"/>
                </a:lnTo>
                <a:lnTo>
                  <a:pt x="202019" y="117681"/>
                </a:lnTo>
                <a:lnTo>
                  <a:pt x="201150" y="118745"/>
                </a:lnTo>
                <a:lnTo>
                  <a:pt x="200469" y="119530"/>
                </a:lnTo>
                <a:lnTo>
                  <a:pt x="199919" y="120097"/>
                </a:lnTo>
                <a:lnTo>
                  <a:pt x="199431" y="120505"/>
                </a:lnTo>
                <a:lnTo>
                  <a:pt x="198943" y="120813"/>
                </a:lnTo>
                <a:lnTo>
                  <a:pt x="198392" y="121082"/>
                </a:lnTo>
                <a:lnTo>
                  <a:pt x="197714" y="121369"/>
                </a:lnTo>
                <a:close/>
                <a:moveTo>
                  <a:pt x="178197" y="107281"/>
                </a:moveTo>
                <a:lnTo>
                  <a:pt x="177751" y="107219"/>
                </a:lnTo>
                <a:lnTo>
                  <a:pt x="177308" y="107158"/>
                </a:lnTo>
                <a:lnTo>
                  <a:pt x="176868" y="107101"/>
                </a:lnTo>
                <a:lnTo>
                  <a:pt x="176435" y="107049"/>
                </a:lnTo>
                <a:lnTo>
                  <a:pt x="176009" y="107006"/>
                </a:lnTo>
                <a:lnTo>
                  <a:pt x="175595" y="106972"/>
                </a:lnTo>
                <a:lnTo>
                  <a:pt x="175191" y="106951"/>
                </a:lnTo>
                <a:lnTo>
                  <a:pt x="174803" y="106942"/>
                </a:lnTo>
                <a:lnTo>
                  <a:pt x="174803" y="106624"/>
                </a:lnTo>
                <a:lnTo>
                  <a:pt x="174803" y="106305"/>
                </a:lnTo>
                <a:lnTo>
                  <a:pt x="174803" y="105987"/>
                </a:lnTo>
                <a:lnTo>
                  <a:pt x="174803" y="105669"/>
                </a:lnTo>
                <a:lnTo>
                  <a:pt x="174803" y="105351"/>
                </a:lnTo>
                <a:lnTo>
                  <a:pt x="174803" y="105032"/>
                </a:lnTo>
                <a:lnTo>
                  <a:pt x="174803" y="104714"/>
                </a:lnTo>
                <a:lnTo>
                  <a:pt x="174803" y="104395"/>
                </a:lnTo>
                <a:lnTo>
                  <a:pt x="175439" y="104270"/>
                </a:lnTo>
                <a:lnTo>
                  <a:pt x="176075" y="104145"/>
                </a:lnTo>
                <a:lnTo>
                  <a:pt x="176712" y="104025"/>
                </a:lnTo>
                <a:lnTo>
                  <a:pt x="177348" y="103909"/>
                </a:lnTo>
                <a:lnTo>
                  <a:pt x="177984" y="103803"/>
                </a:lnTo>
                <a:lnTo>
                  <a:pt x="178620" y="103705"/>
                </a:lnTo>
                <a:lnTo>
                  <a:pt x="179257" y="103620"/>
                </a:lnTo>
                <a:lnTo>
                  <a:pt x="179894" y="103546"/>
                </a:lnTo>
                <a:lnTo>
                  <a:pt x="179646" y="103994"/>
                </a:lnTo>
                <a:lnTo>
                  <a:pt x="179414" y="104441"/>
                </a:lnTo>
                <a:lnTo>
                  <a:pt x="179192" y="104894"/>
                </a:lnTo>
                <a:lnTo>
                  <a:pt x="178982" y="105351"/>
                </a:lnTo>
                <a:lnTo>
                  <a:pt x="178777" y="105818"/>
                </a:lnTo>
                <a:lnTo>
                  <a:pt x="178580" y="106293"/>
                </a:lnTo>
                <a:lnTo>
                  <a:pt x="178387" y="106781"/>
                </a:lnTo>
                <a:lnTo>
                  <a:pt x="178197" y="107281"/>
                </a:lnTo>
                <a:close/>
                <a:moveTo>
                  <a:pt x="210442" y="94549"/>
                </a:moveTo>
                <a:lnTo>
                  <a:pt x="210376" y="94169"/>
                </a:lnTo>
                <a:lnTo>
                  <a:pt x="210313" y="93790"/>
                </a:lnTo>
                <a:lnTo>
                  <a:pt x="210250" y="93415"/>
                </a:lnTo>
                <a:lnTo>
                  <a:pt x="210187" y="93044"/>
                </a:lnTo>
                <a:lnTo>
                  <a:pt x="210122" y="92683"/>
                </a:lnTo>
                <a:lnTo>
                  <a:pt x="210059" y="92331"/>
                </a:lnTo>
                <a:lnTo>
                  <a:pt x="209996" y="91992"/>
                </a:lnTo>
                <a:lnTo>
                  <a:pt x="209933" y="91665"/>
                </a:lnTo>
                <a:lnTo>
                  <a:pt x="210632" y="91037"/>
                </a:lnTo>
                <a:lnTo>
                  <a:pt x="211331" y="90422"/>
                </a:lnTo>
                <a:lnTo>
                  <a:pt x="212031" y="89818"/>
                </a:lnTo>
                <a:lnTo>
                  <a:pt x="212733" y="89225"/>
                </a:lnTo>
                <a:lnTo>
                  <a:pt x="213432" y="88640"/>
                </a:lnTo>
                <a:lnTo>
                  <a:pt x="214132" y="88061"/>
                </a:lnTo>
                <a:lnTo>
                  <a:pt x="214831" y="87486"/>
                </a:lnTo>
                <a:lnTo>
                  <a:pt x="215533" y="86911"/>
                </a:lnTo>
                <a:lnTo>
                  <a:pt x="215724" y="86984"/>
                </a:lnTo>
                <a:lnTo>
                  <a:pt x="215917" y="87068"/>
                </a:lnTo>
                <a:lnTo>
                  <a:pt x="216114" y="87167"/>
                </a:lnTo>
                <a:lnTo>
                  <a:pt x="216318" y="87273"/>
                </a:lnTo>
                <a:lnTo>
                  <a:pt x="216528" y="87389"/>
                </a:lnTo>
                <a:lnTo>
                  <a:pt x="216750" y="87509"/>
                </a:lnTo>
                <a:lnTo>
                  <a:pt x="216983" y="87634"/>
                </a:lnTo>
                <a:lnTo>
                  <a:pt x="217231" y="87760"/>
                </a:lnTo>
                <a:lnTo>
                  <a:pt x="216806" y="89091"/>
                </a:lnTo>
                <a:lnTo>
                  <a:pt x="216289" y="90183"/>
                </a:lnTo>
                <a:lnTo>
                  <a:pt x="215663" y="91088"/>
                </a:lnTo>
                <a:lnTo>
                  <a:pt x="214918" y="91856"/>
                </a:lnTo>
                <a:lnTo>
                  <a:pt x="214036" y="92537"/>
                </a:lnTo>
                <a:lnTo>
                  <a:pt x="213005" y="93180"/>
                </a:lnTo>
                <a:lnTo>
                  <a:pt x="211812" y="93835"/>
                </a:lnTo>
                <a:lnTo>
                  <a:pt x="210442" y="94549"/>
                </a:lnTo>
                <a:close/>
                <a:moveTo>
                  <a:pt x="185834" y="91155"/>
                </a:moveTo>
                <a:lnTo>
                  <a:pt x="185586" y="91093"/>
                </a:lnTo>
                <a:lnTo>
                  <a:pt x="185353" y="91031"/>
                </a:lnTo>
                <a:lnTo>
                  <a:pt x="185131" y="90974"/>
                </a:lnTo>
                <a:lnTo>
                  <a:pt x="184921" y="90922"/>
                </a:lnTo>
                <a:lnTo>
                  <a:pt x="184717" y="90879"/>
                </a:lnTo>
                <a:lnTo>
                  <a:pt x="184520" y="90845"/>
                </a:lnTo>
                <a:lnTo>
                  <a:pt x="184327" y="90824"/>
                </a:lnTo>
                <a:lnTo>
                  <a:pt x="184137" y="90815"/>
                </a:lnTo>
                <a:lnTo>
                  <a:pt x="184137" y="90372"/>
                </a:lnTo>
                <a:lnTo>
                  <a:pt x="184137" y="89928"/>
                </a:lnTo>
                <a:lnTo>
                  <a:pt x="184137" y="89490"/>
                </a:lnTo>
                <a:lnTo>
                  <a:pt x="184137" y="89056"/>
                </a:lnTo>
                <a:lnTo>
                  <a:pt x="184137" y="88631"/>
                </a:lnTo>
                <a:lnTo>
                  <a:pt x="184137" y="88215"/>
                </a:lnTo>
                <a:lnTo>
                  <a:pt x="184137" y="87812"/>
                </a:lnTo>
                <a:lnTo>
                  <a:pt x="184137" y="87421"/>
                </a:lnTo>
                <a:lnTo>
                  <a:pt x="184327" y="87421"/>
                </a:lnTo>
                <a:lnTo>
                  <a:pt x="184520" y="87421"/>
                </a:lnTo>
                <a:lnTo>
                  <a:pt x="184717" y="87421"/>
                </a:lnTo>
                <a:lnTo>
                  <a:pt x="184921" y="87421"/>
                </a:lnTo>
                <a:lnTo>
                  <a:pt x="185131" y="87421"/>
                </a:lnTo>
                <a:lnTo>
                  <a:pt x="185353" y="87421"/>
                </a:lnTo>
                <a:lnTo>
                  <a:pt x="185586" y="87421"/>
                </a:lnTo>
                <a:lnTo>
                  <a:pt x="185834" y="87421"/>
                </a:lnTo>
                <a:lnTo>
                  <a:pt x="185834" y="86976"/>
                </a:lnTo>
                <a:lnTo>
                  <a:pt x="185834" y="86533"/>
                </a:lnTo>
                <a:lnTo>
                  <a:pt x="185834" y="86095"/>
                </a:lnTo>
                <a:lnTo>
                  <a:pt x="185834" y="85660"/>
                </a:lnTo>
                <a:lnTo>
                  <a:pt x="185834" y="85236"/>
                </a:lnTo>
                <a:lnTo>
                  <a:pt x="185834" y="84820"/>
                </a:lnTo>
                <a:lnTo>
                  <a:pt x="185834" y="84417"/>
                </a:lnTo>
                <a:lnTo>
                  <a:pt x="185834" y="84025"/>
                </a:lnTo>
                <a:lnTo>
                  <a:pt x="186152" y="84025"/>
                </a:lnTo>
                <a:lnTo>
                  <a:pt x="186470" y="84025"/>
                </a:lnTo>
                <a:lnTo>
                  <a:pt x="186788" y="84025"/>
                </a:lnTo>
                <a:lnTo>
                  <a:pt x="187106" y="84025"/>
                </a:lnTo>
                <a:lnTo>
                  <a:pt x="187424" y="84025"/>
                </a:lnTo>
                <a:lnTo>
                  <a:pt x="187743" y="84025"/>
                </a:lnTo>
                <a:lnTo>
                  <a:pt x="188061" y="84025"/>
                </a:lnTo>
                <a:lnTo>
                  <a:pt x="188380" y="84025"/>
                </a:lnTo>
                <a:lnTo>
                  <a:pt x="188487" y="85154"/>
                </a:lnTo>
                <a:lnTo>
                  <a:pt x="188548" y="86042"/>
                </a:lnTo>
                <a:lnTo>
                  <a:pt x="188545" y="86771"/>
                </a:lnTo>
                <a:lnTo>
                  <a:pt x="188464" y="87421"/>
                </a:lnTo>
                <a:lnTo>
                  <a:pt x="188286" y="88071"/>
                </a:lnTo>
                <a:lnTo>
                  <a:pt x="187998" y="88800"/>
                </a:lnTo>
                <a:lnTo>
                  <a:pt x="187581" y="89688"/>
                </a:lnTo>
                <a:lnTo>
                  <a:pt x="187022" y="90815"/>
                </a:lnTo>
                <a:lnTo>
                  <a:pt x="186837" y="90824"/>
                </a:lnTo>
                <a:lnTo>
                  <a:pt x="186668" y="90845"/>
                </a:lnTo>
                <a:lnTo>
                  <a:pt x="186510" y="90879"/>
                </a:lnTo>
                <a:lnTo>
                  <a:pt x="186364" y="90922"/>
                </a:lnTo>
                <a:lnTo>
                  <a:pt x="186223" y="90974"/>
                </a:lnTo>
                <a:lnTo>
                  <a:pt x="186090" y="91031"/>
                </a:lnTo>
                <a:lnTo>
                  <a:pt x="185960" y="91093"/>
                </a:lnTo>
                <a:lnTo>
                  <a:pt x="185834" y="91155"/>
                </a:lnTo>
                <a:close/>
                <a:moveTo>
                  <a:pt x="235899" y="87421"/>
                </a:moveTo>
                <a:lnTo>
                  <a:pt x="236217" y="86721"/>
                </a:lnTo>
                <a:lnTo>
                  <a:pt x="236535" y="86022"/>
                </a:lnTo>
                <a:lnTo>
                  <a:pt x="236853" y="85322"/>
                </a:lnTo>
                <a:lnTo>
                  <a:pt x="237171" y="84620"/>
                </a:lnTo>
                <a:lnTo>
                  <a:pt x="237490" y="83920"/>
                </a:lnTo>
                <a:lnTo>
                  <a:pt x="237808" y="83221"/>
                </a:lnTo>
                <a:lnTo>
                  <a:pt x="238126" y="82521"/>
                </a:lnTo>
                <a:lnTo>
                  <a:pt x="238445" y="81819"/>
                </a:lnTo>
                <a:lnTo>
                  <a:pt x="238763" y="81757"/>
                </a:lnTo>
                <a:lnTo>
                  <a:pt x="239081" y="81696"/>
                </a:lnTo>
                <a:lnTo>
                  <a:pt x="239399" y="81639"/>
                </a:lnTo>
                <a:lnTo>
                  <a:pt x="239718" y="81587"/>
                </a:lnTo>
                <a:lnTo>
                  <a:pt x="240036" y="81544"/>
                </a:lnTo>
                <a:lnTo>
                  <a:pt x="240354" y="81510"/>
                </a:lnTo>
                <a:lnTo>
                  <a:pt x="240672" y="81489"/>
                </a:lnTo>
                <a:lnTo>
                  <a:pt x="240990" y="81480"/>
                </a:lnTo>
                <a:lnTo>
                  <a:pt x="239976" y="83164"/>
                </a:lnTo>
                <a:lnTo>
                  <a:pt x="239191" y="84438"/>
                </a:lnTo>
                <a:lnTo>
                  <a:pt x="238572" y="85375"/>
                </a:lnTo>
                <a:lnTo>
                  <a:pt x="238063" y="86042"/>
                </a:lnTo>
                <a:lnTo>
                  <a:pt x="237599" y="86512"/>
                </a:lnTo>
                <a:lnTo>
                  <a:pt x="237123" y="86851"/>
                </a:lnTo>
                <a:lnTo>
                  <a:pt x="236576" y="87131"/>
                </a:lnTo>
                <a:lnTo>
                  <a:pt x="235899" y="87421"/>
                </a:lnTo>
                <a:close/>
                <a:moveTo>
                  <a:pt x="221474" y="81819"/>
                </a:moveTo>
                <a:lnTo>
                  <a:pt x="221474" y="81439"/>
                </a:lnTo>
                <a:lnTo>
                  <a:pt x="221474" y="81058"/>
                </a:lnTo>
                <a:lnTo>
                  <a:pt x="221474" y="80683"/>
                </a:lnTo>
                <a:lnTo>
                  <a:pt x="221474" y="80313"/>
                </a:lnTo>
                <a:lnTo>
                  <a:pt x="221474" y="79952"/>
                </a:lnTo>
                <a:lnTo>
                  <a:pt x="221474" y="79599"/>
                </a:lnTo>
                <a:lnTo>
                  <a:pt x="221474" y="79260"/>
                </a:lnTo>
                <a:lnTo>
                  <a:pt x="221474" y="78933"/>
                </a:lnTo>
                <a:lnTo>
                  <a:pt x="222161" y="78751"/>
                </a:lnTo>
                <a:lnTo>
                  <a:pt x="222940" y="78263"/>
                </a:lnTo>
                <a:lnTo>
                  <a:pt x="223784" y="77565"/>
                </a:lnTo>
                <a:lnTo>
                  <a:pt x="224677" y="76749"/>
                </a:lnTo>
                <a:lnTo>
                  <a:pt x="225591" y="75909"/>
                </a:lnTo>
                <a:lnTo>
                  <a:pt x="226508" y="75138"/>
                </a:lnTo>
                <a:lnTo>
                  <a:pt x="227405" y="74532"/>
                </a:lnTo>
                <a:lnTo>
                  <a:pt x="228262" y="74180"/>
                </a:lnTo>
                <a:lnTo>
                  <a:pt x="228610" y="75059"/>
                </a:lnTo>
                <a:lnTo>
                  <a:pt x="228251" y="76114"/>
                </a:lnTo>
                <a:lnTo>
                  <a:pt x="227366" y="77270"/>
                </a:lnTo>
                <a:lnTo>
                  <a:pt x="226140" y="78446"/>
                </a:lnTo>
                <a:lnTo>
                  <a:pt x="224754" y="79567"/>
                </a:lnTo>
                <a:lnTo>
                  <a:pt x="223392" y="80555"/>
                </a:lnTo>
                <a:lnTo>
                  <a:pt x="222238" y="81332"/>
                </a:lnTo>
                <a:lnTo>
                  <a:pt x="221474" y="81819"/>
                </a:lnTo>
                <a:close/>
                <a:moveTo>
                  <a:pt x="192623" y="77236"/>
                </a:moveTo>
                <a:lnTo>
                  <a:pt x="192693" y="76608"/>
                </a:lnTo>
                <a:lnTo>
                  <a:pt x="192778" y="75993"/>
                </a:lnTo>
                <a:lnTo>
                  <a:pt x="192874" y="75390"/>
                </a:lnTo>
                <a:lnTo>
                  <a:pt x="192982" y="74796"/>
                </a:lnTo>
                <a:lnTo>
                  <a:pt x="193096" y="74212"/>
                </a:lnTo>
                <a:lnTo>
                  <a:pt x="193218" y="73632"/>
                </a:lnTo>
                <a:lnTo>
                  <a:pt x="193343" y="73057"/>
                </a:lnTo>
                <a:lnTo>
                  <a:pt x="193471" y="72483"/>
                </a:lnTo>
                <a:lnTo>
                  <a:pt x="193859" y="72301"/>
                </a:lnTo>
                <a:lnTo>
                  <a:pt x="194264" y="72131"/>
                </a:lnTo>
                <a:lnTo>
                  <a:pt x="194678" y="71974"/>
                </a:lnTo>
                <a:lnTo>
                  <a:pt x="195104" y="71826"/>
                </a:lnTo>
                <a:lnTo>
                  <a:pt x="195536" y="71688"/>
                </a:lnTo>
                <a:lnTo>
                  <a:pt x="195976" y="71553"/>
                </a:lnTo>
                <a:lnTo>
                  <a:pt x="196420" y="71424"/>
                </a:lnTo>
                <a:lnTo>
                  <a:pt x="196866" y="71295"/>
                </a:lnTo>
                <a:lnTo>
                  <a:pt x="196512" y="72276"/>
                </a:lnTo>
                <a:lnTo>
                  <a:pt x="196108" y="73083"/>
                </a:lnTo>
                <a:lnTo>
                  <a:pt x="195685" y="73773"/>
                </a:lnTo>
                <a:lnTo>
                  <a:pt x="195274" y="74393"/>
                </a:lnTo>
                <a:lnTo>
                  <a:pt x="194900" y="74999"/>
                </a:lnTo>
                <a:lnTo>
                  <a:pt x="194598" y="75641"/>
                </a:lnTo>
                <a:lnTo>
                  <a:pt x="194394" y="76369"/>
                </a:lnTo>
                <a:lnTo>
                  <a:pt x="194320" y="77236"/>
                </a:lnTo>
                <a:lnTo>
                  <a:pt x="194072" y="77236"/>
                </a:lnTo>
                <a:lnTo>
                  <a:pt x="193839" y="77236"/>
                </a:lnTo>
                <a:lnTo>
                  <a:pt x="193617" y="77236"/>
                </a:lnTo>
                <a:lnTo>
                  <a:pt x="193407" y="77236"/>
                </a:lnTo>
                <a:lnTo>
                  <a:pt x="193203" y="77236"/>
                </a:lnTo>
                <a:lnTo>
                  <a:pt x="193006" y="77236"/>
                </a:lnTo>
                <a:lnTo>
                  <a:pt x="192813" y="77236"/>
                </a:lnTo>
                <a:lnTo>
                  <a:pt x="192623" y="77236"/>
                </a:lnTo>
                <a:close/>
                <a:moveTo>
                  <a:pt x="198563" y="68748"/>
                </a:moveTo>
                <a:lnTo>
                  <a:pt x="198862" y="66711"/>
                </a:lnTo>
                <a:lnTo>
                  <a:pt x="199373" y="65010"/>
                </a:lnTo>
                <a:lnTo>
                  <a:pt x="200082" y="63588"/>
                </a:lnTo>
                <a:lnTo>
                  <a:pt x="200981" y="62384"/>
                </a:lnTo>
                <a:lnTo>
                  <a:pt x="202052" y="61340"/>
                </a:lnTo>
                <a:lnTo>
                  <a:pt x="203287" y="60395"/>
                </a:lnTo>
                <a:lnTo>
                  <a:pt x="204673" y="59489"/>
                </a:lnTo>
                <a:lnTo>
                  <a:pt x="206200" y="58563"/>
                </a:lnTo>
                <a:lnTo>
                  <a:pt x="205943" y="59499"/>
                </a:lnTo>
                <a:lnTo>
                  <a:pt x="205462" y="60594"/>
                </a:lnTo>
                <a:lnTo>
                  <a:pt x="204795" y="61772"/>
                </a:lnTo>
                <a:lnTo>
                  <a:pt x="203992" y="62956"/>
                </a:lnTo>
                <a:lnTo>
                  <a:pt x="203092" y="64070"/>
                </a:lnTo>
                <a:lnTo>
                  <a:pt x="202140" y="65033"/>
                </a:lnTo>
                <a:lnTo>
                  <a:pt x="201181" y="65770"/>
                </a:lnTo>
                <a:lnTo>
                  <a:pt x="200259" y="66201"/>
                </a:lnTo>
                <a:lnTo>
                  <a:pt x="200259" y="66521"/>
                </a:lnTo>
                <a:lnTo>
                  <a:pt x="200259" y="66839"/>
                </a:lnTo>
                <a:lnTo>
                  <a:pt x="200259" y="67157"/>
                </a:lnTo>
                <a:lnTo>
                  <a:pt x="200259" y="67475"/>
                </a:lnTo>
                <a:lnTo>
                  <a:pt x="200259" y="67793"/>
                </a:lnTo>
                <a:lnTo>
                  <a:pt x="200259" y="68112"/>
                </a:lnTo>
                <a:lnTo>
                  <a:pt x="200259" y="68430"/>
                </a:lnTo>
                <a:lnTo>
                  <a:pt x="200259" y="68748"/>
                </a:lnTo>
                <a:lnTo>
                  <a:pt x="200011" y="68748"/>
                </a:lnTo>
                <a:lnTo>
                  <a:pt x="199779" y="68748"/>
                </a:lnTo>
                <a:lnTo>
                  <a:pt x="199557" y="68748"/>
                </a:lnTo>
                <a:lnTo>
                  <a:pt x="199347" y="68748"/>
                </a:lnTo>
                <a:lnTo>
                  <a:pt x="199143" y="68748"/>
                </a:lnTo>
                <a:lnTo>
                  <a:pt x="198946" y="68748"/>
                </a:lnTo>
                <a:lnTo>
                  <a:pt x="198753" y="68748"/>
                </a:lnTo>
                <a:lnTo>
                  <a:pt x="198563" y="68748"/>
                </a:lnTo>
                <a:close/>
                <a:moveTo>
                  <a:pt x="221474" y="57715"/>
                </a:moveTo>
                <a:lnTo>
                  <a:pt x="221826" y="56689"/>
                </a:lnTo>
                <a:lnTo>
                  <a:pt x="222230" y="55869"/>
                </a:lnTo>
                <a:lnTo>
                  <a:pt x="222652" y="55209"/>
                </a:lnTo>
                <a:lnTo>
                  <a:pt x="223065" y="54660"/>
                </a:lnTo>
                <a:lnTo>
                  <a:pt x="223437" y="54175"/>
                </a:lnTo>
                <a:lnTo>
                  <a:pt x="223740" y="53705"/>
                </a:lnTo>
                <a:lnTo>
                  <a:pt x="223944" y="53204"/>
                </a:lnTo>
                <a:lnTo>
                  <a:pt x="224019" y="52622"/>
                </a:lnTo>
                <a:lnTo>
                  <a:pt x="224209" y="52622"/>
                </a:lnTo>
                <a:lnTo>
                  <a:pt x="224403" y="52622"/>
                </a:lnTo>
                <a:lnTo>
                  <a:pt x="224600" y="52622"/>
                </a:lnTo>
                <a:lnTo>
                  <a:pt x="224804" y="52622"/>
                </a:lnTo>
                <a:lnTo>
                  <a:pt x="225014" y="52622"/>
                </a:lnTo>
                <a:lnTo>
                  <a:pt x="225236" y="52622"/>
                </a:lnTo>
                <a:lnTo>
                  <a:pt x="225468" y="52622"/>
                </a:lnTo>
                <a:lnTo>
                  <a:pt x="225716" y="52622"/>
                </a:lnTo>
                <a:lnTo>
                  <a:pt x="225716" y="53014"/>
                </a:lnTo>
                <a:lnTo>
                  <a:pt x="225716" y="53417"/>
                </a:lnTo>
                <a:lnTo>
                  <a:pt x="225716" y="53833"/>
                </a:lnTo>
                <a:lnTo>
                  <a:pt x="225716" y="54257"/>
                </a:lnTo>
                <a:lnTo>
                  <a:pt x="225716" y="54692"/>
                </a:lnTo>
                <a:lnTo>
                  <a:pt x="225716" y="55130"/>
                </a:lnTo>
                <a:lnTo>
                  <a:pt x="225716" y="55573"/>
                </a:lnTo>
                <a:lnTo>
                  <a:pt x="225716" y="56017"/>
                </a:lnTo>
                <a:lnTo>
                  <a:pt x="225150" y="56210"/>
                </a:lnTo>
                <a:lnTo>
                  <a:pt x="224600" y="56403"/>
                </a:lnTo>
                <a:lnTo>
                  <a:pt x="224059" y="56601"/>
                </a:lnTo>
                <a:lnTo>
                  <a:pt x="223531" y="56803"/>
                </a:lnTo>
                <a:lnTo>
                  <a:pt x="223009" y="57015"/>
                </a:lnTo>
                <a:lnTo>
                  <a:pt x="222494" y="57235"/>
                </a:lnTo>
                <a:lnTo>
                  <a:pt x="221982" y="57470"/>
                </a:lnTo>
                <a:lnTo>
                  <a:pt x="221474" y="57715"/>
                </a:lnTo>
                <a:close/>
                <a:moveTo>
                  <a:pt x="249476" y="54319"/>
                </a:moveTo>
                <a:lnTo>
                  <a:pt x="249563" y="53720"/>
                </a:lnTo>
                <a:lnTo>
                  <a:pt x="249801" y="53180"/>
                </a:lnTo>
                <a:lnTo>
                  <a:pt x="250145" y="52679"/>
                </a:lnTo>
                <a:lnTo>
                  <a:pt x="250558" y="52198"/>
                </a:lnTo>
                <a:lnTo>
                  <a:pt x="250992" y="51718"/>
                </a:lnTo>
                <a:lnTo>
                  <a:pt x="251408" y="51217"/>
                </a:lnTo>
                <a:lnTo>
                  <a:pt x="251765" y="50677"/>
                </a:lnTo>
                <a:lnTo>
                  <a:pt x="252022" y="50076"/>
                </a:lnTo>
                <a:lnTo>
                  <a:pt x="252340" y="50076"/>
                </a:lnTo>
                <a:lnTo>
                  <a:pt x="252659" y="50076"/>
                </a:lnTo>
                <a:lnTo>
                  <a:pt x="252977" y="50076"/>
                </a:lnTo>
                <a:lnTo>
                  <a:pt x="253295" y="50076"/>
                </a:lnTo>
                <a:lnTo>
                  <a:pt x="253613" y="50076"/>
                </a:lnTo>
                <a:lnTo>
                  <a:pt x="253931" y="50076"/>
                </a:lnTo>
                <a:lnTo>
                  <a:pt x="254249" y="50076"/>
                </a:lnTo>
                <a:lnTo>
                  <a:pt x="254567" y="50076"/>
                </a:lnTo>
                <a:lnTo>
                  <a:pt x="254319" y="50587"/>
                </a:lnTo>
                <a:lnTo>
                  <a:pt x="254087" y="51098"/>
                </a:lnTo>
                <a:lnTo>
                  <a:pt x="253865" y="51615"/>
                </a:lnTo>
                <a:lnTo>
                  <a:pt x="253655" y="52135"/>
                </a:lnTo>
                <a:lnTo>
                  <a:pt x="253451" y="52665"/>
                </a:lnTo>
                <a:lnTo>
                  <a:pt x="253254" y="53204"/>
                </a:lnTo>
                <a:lnTo>
                  <a:pt x="253061" y="53756"/>
                </a:lnTo>
                <a:lnTo>
                  <a:pt x="252871" y="54319"/>
                </a:lnTo>
                <a:lnTo>
                  <a:pt x="252424" y="54319"/>
                </a:lnTo>
                <a:lnTo>
                  <a:pt x="251981" y="54319"/>
                </a:lnTo>
                <a:lnTo>
                  <a:pt x="251541" y="54319"/>
                </a:lnTo>
                <a:lnTo>
                  <a:pt x="251109" y="54319"/>
                </a:lnTo>
                <a:lnTo>
                  <a:pt x="250683" y="54319"/>
                </a:lnTo>
                <a:lnTo>
                  <a:pt x="250268" y="54319"/>
                </a:lnTo>
                <a:lnTo>
                  <a:pt x="249864" y="54319"/>
                </a:lnTo>
                <a:lnTo>
                  <a:pt x="249476" y="54319"/>
                </a:lnTo>
                <a:close/>
                <a:moveTo>
                  <a:pt x="245233" y="39891"/>
                </a:moveTo>
                <a:lnTo>
                  <a:pt x="245228" y="39328"/>
                </a:lnTo>
                <a:lnTo>
                  <a:pt x="245193" y="38889"/>
                </a:lnTo>
                <a:lnTo>
                  <a:pt x="245098" y="38538"/>
                </a:lnTo>
                <a:lnTo>
                  <a:pt x="244915" y="38237"/>
                </a:lnTo>
                <a:lnTo>
                  <a:pt x="244611" y="37952"/>
                </a:lnTo>
                <a:lnTo>
                  <a:pt x="244159" y="37648"/>
                </a:lnTo>
                <a:lnTo>
                  <a:pt x="243527" y="37289"/>
                </a:lnTo>
                <a:lnTo>
                  <a:pt x="242688" y="36836"/>
                </a:lnTo>
                <a:lnTo>
                  <a:pt x="242878" y="36591"/>
                </a:lnTo>
                <a:lnTo>
                  <a:pt x="243071" y="36356"/>
                </a:lnTo>
                <a:lnTo>
                  <a:pt x="243268" y="36136"/>
                </a:lnTo>
                <a:lnTo>
                  <a:pt x="243472" y="35924"/>
                </a:lnTo>
                <a:lnTo>
                  <a:pt x="243682" y="35722"/>
                </a:lnTo>
                <a:lnTo>
                  <a:pt x="243905" y="35524"/>
                </a:lnTo>
                <a:lnTo>
                  <a:pt x="244137" y="35331"/>
                </a:lnTo>
                <a:lnTo>
                  <a:pt x="244385" y="35139"/>
                </a:lnTo>
                <a:lnTo>
                  <a:pt x="244703" y="35275"/>
                </a:lnTo>
                <a:lnTo>
                  <a:pt x="245021" y="35424"/>
                </a:lnTo>
                <a:lnTo>
                  <a:pt x="245339" y="35585"/>
                </a:lnTo>
                <a:lnTo>
                  <a:pt x="245657" y="35755"/>
                </a:lnTo>
                <a:lnTo>
                  <a:pt x="245975" y="35935"/>
                </a:lnTo>
                <a:lnTo>
                  <a:pt x="246294" y="36118"/>
                </a:lnTo>
                <a:lnTo>
                  <a:pt x="246612" y="36307"/>
                </a:lnTo>
                <a:lnTo>
                  <a:pt x="246931" y="36496"/>
                </a:lnTo>
                <a:lnTo>
                  <a:pt x="246739" y="36178"/>
                </a:lnTo>
                <a:lnTo>
                  <a:pt x="246550" y="35860"/>
                </a:lnTo>
                <a:lnTo>
                  <a:pt x="246365" y="35542"/>
                </a:lnTo>
                <a:lnTo>
                  <a:pt x="246188" y="35224"/>
                </a:lnTo>
                <a:lnTo>
                  <a:pt x="246015" y="34905"/>
                </a:lnTo>
                <a:lnTo>
                  <a:pt x="245855" y="34587"/>
                </a:lnTo>
                <a:lnTo>
                  <a:pt x="245706" y="34269"/>
                </a:lnTo>
                <a:lnTo>
                  <a:pt x="245573" y="33950"/>
                </a:lnTo>
                <a:lnTo>
                  <a:pt x="245826" y="33761"/>
                </a:lnTo>
                <a:lnTo>
                  <a:pt x="246084" y="33572"/>
                </a:lnTo>
                <a:lnTo>
                  <a:pt x="246345" y="33388"/>
                </a:lnTo>
                <a:lnTo>
                  <a:pt x="246612" y="33208"/>
                </a:lnTo>
                <a:lnTo>
                  <a:pt x="246886" y="33038"/>
                </a:lnTo>
                <a:lnTo>
                  <a:pt x="247171" y="32877"/>
                </a:lnTo>
                <a:lnTo>
                  <a:pt x="247468" y="32728"/>
                </a:lnTo>
                <a:lnTo>
                  <a:pt x="247779" y="32592"/>
                </a:lnTo>
                <a:lnTo>
                  <a:pt x="247786" y="33046"/>
                </a:lnTo>
                <a:lnTo>
                  <a:pt x="247807" y="33513"/>
                </a:lnTo>
                <a:lnTo>
                  <a:pt x="247840" y="33993"/>
                </a:lnTo>
                <a:lnTo>
                  <a:pt x="247884" y="34481"/>
                </a:lnTo>
                <a:lnTo>
                  <a:pt x="247935" y="34979"/>
                </a:lnTo>
                <a:lnTo>
                  <a:pt x="247992" y="35482"/>
                </a:lnTo>
                <a:lnTo>
                  <a:pt x="248053" y="35989"/>
                </a:lnTo>
                <a:lnTo>
                  <a:pt x="248118" y="36496"/>
                </a:lnTo>
                <a:lnTo>
                  <a:pt x="247735" y="36888"/>
                </a:lnTo>
                <a:lnTo>
                  <a:pt x="247356" y="37290"/>
                </a:lnTo>
                <a:lnTo>
                  <a:pt x="246981" y="37706"/>
                </a:lnTo>
                <a:lnTo>
                  <a:pt x="246612" y="38131"/>
                </a:lnTo>
                <a:lnTo>
                  <a:pt x="246249" y="38565"/>
                </a:lnTo>
                <a:lnTo>
                  <a:pt x="245897" y="39003"/>
                </a:lnTo>
                <a:lnTo>
                  <a:pt x="245558" y="39446"/>
                </a:lnTo>
                <a:lnTo>
                  <a:pt x="245233" y="39891"/>
                </a:lnTo>
                <a:close/>
                <a:moveTo>
                  <a:pt x="275781" y="22068"/>
                </a:moveTo>
                <a:lnTo>
                  <a:pt x="275653" y="21624"/>
                </a:lnTo>
                <a:lnTo>
                  <a:pt x="275528" y="21180"/>
                </a:lnTo>
                <a:lnTo>
                  <a:pt x="275407" y="20742"/>
                </a:lnTo>
                <a:lnTo>
                  <a:pt x="275293" y="20308"/>
                </a:lnTo>
                <a:lnTo>
                  <a:pt x="275185" y="19883"/>
                </a:lnTo>
                <a:lnTo>
                  <a:pt x="275089" y="19467"/>
                </a:lnTo>
                <a:lnTo>
                  <a:pt x="275003" y="19064"/>
                </a:lnTo>
                <a:lnTo>
                  <a:pt x="274933" y="18673"/>
                </a:lnTo>
                <a:lnTo>
                  <a:pt x="275759" y="18354"/>
                </a:lnTo>
                <a:lnTo>
                  <a:pt x="276590" y="18036"/>
                </a:lnTo>
                <a:lnTo>
                  <a:pt x="277423" y="17718"/>
                </a:lnTo>
                <a:lnTo>
                  <a:pt x="278263" y="17400"/>
                </a:lnTo>
                <a:lnTo>
                  <a:pt x="279110" y="17081"/>
                </a:lnTo>
                <a:lnTo>
                  <a:pt x="279968" y="16763"/>
                </a:lnTo>
                <a:lnTo>
                  <a:pt x="280838" y="16445"/>
                </a:lnTo>
                <a:lnTo>
                  <a:pt x="281722" y="16127"/>
                </a:lnTo>
                <a:lnTo>
                  <a:pt x="281354" y="17358"/>
                </a:lnTo>
                <a:lnTo>
                  <a:pt x="280793" y="18392"/>
                </a:lnTo>
                <a:lnTo>
                  <a:pt x="280079" y="19262"/>
                </a:lnTo>
                <a:lnTo>
                  <a:pt x="279260" y="19989"/>
                </a:lnTo>
                <a:lnTo>
                  <a:pt x="278374" y="20607"/>
                </a:lnTo>
                <a:lnTo>
                  <a:pt x="277472" y="21140"/>
                </a:lnTo>
                <a:lnTo>
                  <a:pt x="276593" y="21619"/>
                </a:lnTo>
                <a:lnTo>
                  <a:pt x="275781" y="22068"/>
                </a:lnTo>
                <a:close/>
                <a:moveTo>
                  <a:pt x="257114" y="19521"/>
                </a:moveTo>
                <a:lnTo>
                  <a:pt x="257114" y="19276"/>
                </a:lnTo>
                <a:lnTo>
                  <a:pt x="257114" y="19043"/>
                </a:lnTo>
                <a:lnTo>
                  <a:pt x="257114" y="18823"/>
                </a:lnTo>
                <a:lnTo>
                  <a:pt x="257114" y="18610"/>
                </a:lnTo>
                <a:lnTo>
                  <a:pt x="257114" y="18408"/>
                </a:lnTo>
                <a:lnTo>
                  <a:pt x="257114" y="18210"/>
                </a:lnTo>
                <a:lnTo>
                  <a:pt x="257114" y="18017"/>
                </a:lnTo>
                <a:lnTo>
                  <a:pt x="257114" y="17824"/>
                </a:lnTo>
                <a:lnTo>
                  <a:pt x="257940" y="17261"/>
                </a:lnTo>
                <a:lnTo>
                  <a:pt x="258769" y="16708"/>
                </a:lnTo>
                <a:lnTo>
                  <a:pt x="259603" y="16170"/>
                </a:lnTo>
                <a:lnTo>
                  <a:pt x="260443" y="15639"/>
                </a:lnTo>
                <a:lnTo>
                  <a:pt x="261290" y="15119"/>
                </a:lnTo>
                <a:lnTo>
                  <a:pt x="262148" y="14603"/>
                </a:lnTo>
                <a:lnTo>
                  <a:pt x="263017" y="14091"/>
                </a:lnTo>
                <a:lnTo>
                  <a:pt x="263902" y="13580"/>
                </a:lnTo>
                <a:lnTo>
                  <a:pt x="263902" y="13335"/>
                </a:lnTo>
                <a:lnTo>
                  <a:pt x="263902" y="13102"/>
                </a:lnTo>
                <a:lnTo>
                  <a:pt x="263902" y="12882"/>
                </a:lnTo>
                <a:lnTo>
                  <a:pt x="263902" y="12670"/>
                </a:lnTo>
                <a:lnTo>
                  <a:pt x="263902" y="12467"/>
                </a:lnTo>
                <a:lnTo>
                  <a:pt x="263902" y="12269"/>
                </a:lnTo>
                <a:lnTo>
                  <a:pt x="263902" y="12076"/>
                </a:lnTo>
                <a:lnTo>
                  <a:pt x="263902" y="11883"/>
                </a:lnTo>
                <a:lnTo>
                  <a:pt x="264092" y="11883"/>
                </a:lnTo>
                <a:lnTo>
                  <a:pt x="264285" y="11883"/>
                </a:lnTo>
                <a:lnTo>
                  <a:pt x="264482" y="11883"/>
                </a:lnTo>
                <a:lnTo>
                  <a:pt x="264686" y="11883"/>
                </a:lnTo>
                <a:lnTo>
                  <a:pt x="264896" y="11883"/>
                </a:lnTo>
                <a:lnTo>
                  <a:pt x="265118" y="11883"/>
                </a:lnTo>
                <a:lnTo>
                  <a:pt x="265350" y="11883"/>
                </a:lnTo>
                <a:lnTo>
                  <a:pt x="265599" y="11883"/>
                </a:lnTo>
                <a:lnTo>
                  <a:pt x="265599" y="12076"/>
                </a:lnTo>
                <a:lnTo>
                  <a:pt x="265599" y="12269"/>
                </a:lnTo>
                <a:lnTo>
                  <a:pt x="265599" y="12467"/>
                </a:lnTo>
                <a:lnTo>
                  <a:pt x="265599" y="12670"/>
                </a:lnTo>
                <a:lnTo>
                  <a:pt x="265599" y="12882"/>
                </a:lnTo>
                <a:lnTo>
                  <a:pt x="265599" y="13102"/>
                </a:lnTo>
                <a:lnTo>
                  <a:pt x="265599" y="13335"/>
                </a:lnTo>
                <a:lnTo>
                  <a:pt x="265599" y="13580"/>
                </a:lnTo>
                <a:lnTo>
                  <a:pt x="265789" y="13580"/>
                </a:lnTo>
                <a:lnTo>
                  <a:pt x="265982" y="13580"/>
                </a:lnTo>
                <a:lnTo>
                  <a:pt x="266179" y="13580"/>
                </a:lnTo>
                <a:lnTo>
                  <a:pt x="266383" y="13580"/>
                </a:lnTo>
                <a:lnTo>
                  <a:pt x="266593" y="13580"/>
                </a:lnTo>
                <a:lnTo>
                  <a:pt x="266815" y="13580"/>
                </a:lnTo>
                <a:lnTo>
                  <a:pt x="267048" y="13580"/>
                </a:lnTo>
                <a:lnTo>
                  <a:pt x="267296" y="13580"/>
                </a:lnTo>
                <a:lnTo>
                  <a:pt x="267296" y="13773"/>
                </a:lnTo>
                <a:lnTo>
                  <a:pt x="267296" y="13966"/>
                </a:lnTo>
                <a:lnTo>
                  <a:pt x="267296" y="14165"/>
                </a:lnTo>
                <a:lnTo>
                  <a:pt x="267296" y="14367"/>
                </a:lnTo>
                <a:lnTo>
                  <a:pt x="267296" y="14579"/>
                </a:lnTo>
                <a:lnTo>
                  <a:pt x="267296" y="14799"/>
                </a:lnTo>
                <a:lnTo>
                  <a:pt x="267296" y="15032"/>
                </a:lnTo>
                <a:lnTo>
                  <a:pt x="267296" y="15277"/>
                </a:lnTo>
                <a:lnTo>
                  <a:pt x="266666" y="15350"/>
                </a:lnTo>
                <a:lnTo>
                  <a:pt x="266051" y="15435"/>
                </a:lnTo>
                <a:lnTo>
                  <a:pt x="265447" y="15533"/>
                </a:lnTo>
                <a:lnTo>
                  <a:pt x="264855" y="15639"/>
                </a:lnTo>
                <a:lnTo>
                  <a:pt x="264270" y="15756"/>
                </a:lnTo>
                <a:lnTo>
                  <a:pt x="263691" y="15876"/>
                </a:lnTo>
                <a:lnTo>
                  <a:pt x="263115" y="16001"/>
                </a:lnTo>
                <a:lnTo>
                  <a:pt x="262544" y="16127"/>
                </a:lnTo>
                <a:lnTo>
                  <a:pt x="262479" y="16518"/>
                </a:lnTo>
                <a:lnTo>
                  <a:pt x="262418" y="16920"/>
                </a:lnTo>
                <a:lnTo>
                  <a:pt x="262361" y="17337"/>
                </a:lnTo>
                <a:lnTo>
                  <a:pt x="262310" y="17761"/>
                </a:lnTo>
                <a:lnTo>
                  <a:pt x="262266" y="18195"/>
                </a:lnTo>
                <a:lnTo>
                  <a:pt x="262233" y="18634"/>
                </a:lnTo>
                <a:lnTo>
                  <a:pt x="262212" y="19077"/>
                </a:lnTo>
                <a:lnTo>
                  <a:pt x="262205" y="19521"/>
                </a:lnTo>
                <a:lnTo>
                  <a:pt x="261568" y="19521"/>
                </a:lnTo>
                <a:lnTo>
                  <a:pt x="260931" y="19521"/>
                </a:lnTo>
                <a:lnTo>
                  <a:pt x="260295" y="19521"/>
                </a:lnTo>
                <a:lnTo>
                  <a:pt x="259659" y="19521"/>
                </a:lnTo>
                <a:lnTo>
                  <a:pt x="259022" y="19521"/>
                </a:lnTo>
                <a:lnTo>
                  <a:pt x="258386" y="19521"/>
                </a:lnTo>
                <a:lnTo>
                  <a:pt x="257750" y="19521"/>
                </a:lnTo>
                <a:lnTo>
                  <a:pt x="257114" y="19521"/>
                </a:lnTo>
                <a:close/>
                <a:moveTo>
                  <a:pt x="281722" y="10525"/>
                </a:moveTo>
                <a:lnTo>
                  <a:pt x="281474" y="10463"/>
                </a:lnTo>
                <a:lnTo>
                  <a:pt x="281241" y="10401"/>
                </a:lnTo>
                <a:lnTo>
                  <a:pt x="281019" y="10344"/>
                </a:lnTo>
                <a:lnTo>
                  <a:pt x="280809" y="10292"/>
                </a:lnTo>
                <a:lnTo>
                  <a:pt x="280604" y="10249"/>
                </a:lnTo>
                <a:lnTo>
                  <a:pt x="280407" y="10215"/>
                </a:lnTo>
                <a:lnTo>
                  <a:pt x="280214" y="10194"/>
                </a:lnTo>
                <a:lnTo>
                  <a:pt x="280024" y="10185"/>
                </a:lnTo>
                <a:lnTo>
                  <a:pt x="280024" y="9867"/>
                </a:lnTo>
                <a:lnTo>
                  <a:pt x="280024" y="9548"/>
                </a:lnTo>
                <a:lnTo>
                  <a:pt x="280024" y="9230"/>
                </a:lnTo>
                <a:lnTo>
                  <a:pt x="280024" y="8912"/>
                </a:lnTo>
                <a:lnTo>
                  <a:pt x="280024" y="8594"/>
                </a:lnTo>
                <a:lnTo>
                  <a:pt x="280024" y="8276"/>
                </a:lnTo>
                <a:lnTo>
                  <a:pt x="280024" y="7957"/>
                </a:lnTo>
                <a:lnTo>
                  <a:pt x="280024" y="7639"/>
                </a:lnTo>
                <a:lnTo>
                  <a:pt x="281654" y="6763"/>
                </a:lnTo>
                <a:lnTo>
                  <a:pt x="283020" y="5993"/>
                </a:lnTo>
                <a:lnTo>
                  <a:pt x="284169" y="5269"/>
                </a:lnTo>
                <a:lnTo>
                  <a:pt x="285158" y="4520"/>
                </a:lnTo>
                <a:lnTo>
                  <a:pt x="286032" y="3686"/>
                </a:lnTo>
                <a:lnTo>
                  <a:pt x="286848" y="2699"/>
                </a:lnTo>
                <a:lnTo>
                  <a:pt x="287657" y="1492"/>
                </a:lnTo>
                <a:lnTo>
                  <a:pt x="288510" y="0"/>
                </a:lnTo>
                <a:lnTo>
                  <a:pt x="288700" y="0"/>
                </a:lnTo>
                <a:lnTo>
                  <a:pt x="288893" y="0"/>
                </a:lnTo>
                <a:lnTo>
                  <a:pt x="289090" y="0"/>
                </a:lnTo>
                <a:lnTo>
                  <a:pt x="289294" y="0"/>
                </a:lnTo>
                <a:lnTo>
                  <a:pt x="289505" y="0"/>
                </a:lnTo>
                <a:lnTo>
                  <a:pt x="289727" y="0"/>
                </a:lnTo>
                <a:lnTo>
                  <a:pt x="289959" y="0"/>
                </a:lnTo>
                <a:lnTo>
                  <a:pt x="290207" y="0"/>
                </a:lnTo>
                <a:lnTo>
                  <a:pt x="289139" y="1874"/>
                </a:lnTo>
                <a:lnTo>
                  <a:pt x="288135" y="3276"/>
                </a:lnTo>
                <a:lnTo>
                  <a:pt x="287236" y="4373"/>
                </a:lnTo>
                <a:lnTo>
                  <a:pt x="286493" y="5327"/>
                </a:lnTo>
                <a:lnTo>
                  <a:pt x="285947" y="6306"/>
                </a:lnTo>
                <a:lnTo>
                  <a:pt x="285647" y="7473"/>
                </a:lnTo>
                <a:lnTo>
                  <a:pt x="285637" y="8995"/>
                </a:lnTo>
                <a:lnTo>
                  <a:pt x="285964" y="11034"/>
                </a:lnTo>
                <a:lnTo>
                  <a:pt x="285398" y="10971"/>
                </a:lnTo>
                <a:lnTo>
                  <a:pt x="284847" y="10908"/>
                </a:lnTo>
                <a:lnTo>
                  <a:pt x="284307" y="10845"/>
                </a:lnTo>
                <a:lnTo>
                  <a:pt x="283779" y="10780"/>
                </a:lnTo>
                <a:lnTo>
                  <a:pt x="283257" y="10717"/>
                </a:lnTo>
                <a:lnTo>
                  <a:pt x="282741" y="10654"/>
                </a:lnTo>
                <a:lnTo>
                  <a:pt x="282230" y="10591"/>
                </a:lnTo>
                <a:lnTo>
                  <a:pt x="281722" y="1052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7543800" y="5562720"/>
            <a:ext cx="1371600" cy="1188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RotisSemiSerif"/>
              </a:rPr>
              <a:t>Junior Certificate School Programme</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37720" y="609480"/>
            <a:ext cx="7620120" cy="22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Junior Certificate School Programme</a:t>
            </a:r>
            <a:endParaRPr b="0" lang="en-US" sz="6000" spc="-1" strike="noStrike">
              <a:solidFill>
                <a:srgbClr val="000000"/>
              </a:solidFill>
              <a:latin typeface="Times New Roman"/>
            </a:endParaRPr>
          </a:p>
        </p:txBody>
      </p:sp>
      <p:sp>
        <p:nvSpPr>
          <p:cNvPr id="45" name="PlaceHolder 2"/>
          <p:cNvSpPr>
            <a:spLocks noGrp="1"/>
          </p:cNvSpPr>
          <p:nvPr>
            <p:ph type="subTitle"/>
          </p:nvPr>
        </p:nvSpPr>
        <p:spPr>
          <a:xfrm>
            <a:off x="2133720" y="2971440"/>
            <a:ext cx="6400800" cy="2685960"/>
          </a:xfrm>
          <a:prstGeom prst="rect">
            <a:avLst/>
          </a:prstGeom>
          <a:noFill/>
          <a:ln w="0">
            <a:noFill/>
          </a:ln>
        </p:spPr>
        <p:txBody>
          <a:bodyPr lIns="90000" rIns="90000" tIns="46800" bIns="46800" anchor="t">
            <a:noAutofit/>
          </a:bodyPr>
          <a:p>
            <a:pPr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Overhead Masters</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143000" y="685800"/>
            <a:ext cx="7238880" cy="5031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
          <p:cNvSpPr/>
          <p:nvPr/>
        </p:nvSpPr>
        <p:spPr>
          <a:xfrm>
            <a:off x="723960" y="457200"/>
            <a:ext cx="7200720" cy="106668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0000"/>
                </a:solidFill>
                <a:latin typeface="Verdana"/>
              </a:rPr>
              <a:t>Students</a:t>
            </a:r>
            <a:endParaRPr b="0" lang="en-US" sz="3600" spc="-1" strike="noStrike">
              <a:solidFill>
                <a:srgbClr val="000000"/>
              </a:solidFill>
              <a:latin typeface="Times New Roman"/>
            </a:endParaRPr>
          </a:p>
        </p:txBody>
      </p:sp>
      <p:sp>
        <p:nvSpPr>
          <p:cNvPr id="65" name=""/>
          <p:cNvSpPr/>
          <p:nvPr/>
        </p:nvSpPr>
        <p:spPr>
          <a:xfrm>
            <a:off x="1219320" y="1600200"/>
            <a:ext cx="7086600" cy="612144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ed to the Programme</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ders</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at class work / homework/ class tests count towards their final profile</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d on progress</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warded for achievement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13" dur="500"/>
                                        <p:tgtEl>
                                          <p:spTgt spid="65">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65">
                                            <p:txEl>
                                              <p:pRg st="1" end="1"/>
                                            </p:txEl>
                                          </p:spTgt>
                                        </p:tgtEl>
                                        <p:attrNameLst>
                                          <p:attrName>style.visibility</p:attrName>
                                        </p:attrNameLst>
                                      </p:cBhvr>
                                      <p:to>
                                        <p:strVal val="visible"/>
                                      </p:to>
                                    </p:set>
                                    <p:animEffect filter="wipe(left)" transition="in">
                                      <p:cBhvr additive="repl">
                                        <p:cTn id="18" dur="500"/>
                                        <p:tgtEl>
                                          <p:spTgt spid="65">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65">
                                            <p:txEl>
                                              <p:pRg st="2" end="2"/>
                                            </p:txEl>
                                          </p:spTgt>
                                        </p:tgtEl>
                                        <p:attrNameLst>
                                          <p:attrName>style.visibility</p:attrName>
                                        </p:attrNameLst>
                                      </p:cBhvr>
                                      <p:to>
                                        <p:strVal val="visible"/>
                                      </p:to>
                                    </p:set>
                                    <p:animEffect filter="wipe(left)" transition="in">
                                      <p:cBhvr additive="repl">
                                        <p:cTn id="23" dur="500"/>
                                        <p:tgtEl>
                                          <p:spTgt spid="65">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65">
                                            <p:txEl>
                                              <p:pRg st="3" end="3"/>
                                            </p:txEl>
                                          </p:spTgt>
                                        </p:tgtEl>
                                        <p:attrNameLst>
                                          <p:attrName>style.visibility</p:attrName>
                                        </p:attrNameLst>
                                      </p:cBhvr>
                                      <p:to>
                                        <p:strVal val="visible"/>
                                      </p:to>
                                    </p:set>
                                    <p:animEffect filter="wipe(left)" transition="in">
                                      <p:cBhvr additive="repl">
                                        <p:cTn id="28" dur="500"/>
                                        <p:tgtEl>
                                          <p:spTgt spid="65">
                                            <p:txEl>
                                              <p:pRg st="3" end="3"/>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65">
                                            <p:txEl>
                                              <p:pRg st="4" end="4"/>
                                            </p:txEl>
                                          </p:spTgt>
                                        </p:tgtEl>
                                        <p:attrNameLst>
                                          <p:attrName>style.visibility</p:attrName>
                                        </p:attrNameLst>
                                      </p:cBhvr>
                                      <p:to>
                                        <p:strVal val="visible"/>
                                      </p:to>
                                    </p:set>
                                    <p:animEffect filter="wipe(left)" transition="in">
                                      <p:cBhvr additive="repl">
                                        <p:cTn id="33" dur="5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1547640" y="1981080"/>
            <a:ext cx="69105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Students get involved in other projects and competitions as a result of involvement in the JCSP .</a:t>
            </a:r>
            <a:endParaRPr b="0" lang="en-US" sz="2800" spc="-1" strike="noStrike">
              <a:solidFill>
                <a:srgbClr val="000000"/>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	</a:t>
            </a:r>
            <a:r>
              <a:rPr b="0" lang="en-IE" sz="1600" spc="-1" strike="noStrike">
                <a:solidFill>
                  <a:srgbClr val="000000"/>
                </a:solidFill>
                <a:latin typeface="Times New Roman"/>
              </a:rPr>
              <a:t>	</a:t>
            </a:r>
            <a:r>
              <a:rPr b="0" lang="en-IE" sz="1600" spc="-1" strike="noStrike">
                <a:solidFill>
                  <a:srgbClr val="000000"/>
                </a:solidFill>
                <a:latin typeface="Times New Roman"/>
              </a:rPr>
              <a:t>	</a:t>
            </a:r>
            <a:r>
              <a:rPr b="0" lang="en-IE" sz="1600" spc="-1" strike="noStrike">
                <a:solidFill>
                  <a:srgbClr val="000000"/>
                </a:solidFill>
                <a:latin typeface="Times New Roman"/>
              </a:rPr>
              <a:t>	</a:t>
            </a:r>
            <a:r>
              <a:rPr b="0" lang="en-IE" sz="1600" spc="-1" strike="noStrike">
                <a:solidFill>
                  <a:srgbClr val="000000"/>
                </a:solidFill>
                <a:latin typeface="Times New Roman"/>
              </a:rPr>
              <a:t>	</a:t>
            </a:r>
            <a:r>
              <a:rPr b="0" lang="en-IE" sz="1400" spc="-1" strike="noStrike">
                <a:solidFill>
                  <a:srgbClr val="000000"/>
                </a:solidFill>
                <a:latin typeface="Times New Roman"/>
              </a:rPr>
              <a:t>Evaluation: Building on Success</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2819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200" spc="-1" strike="noStrike">
                <a:solidFill>
                  <a:srgbClr val="000000"/>
                </a:solidFill>
                <a:latin typeface="Verdana"/>
              </a:rPr>
              <a:t>Profiling</a:t>
            </a:r>
            <a:endParaRPr b="0" lang="en-US" sz="14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Verdana"/>
              </a:rPr>
              <a:t>Profiling</a:t>
            </a:r>
            <a:endParaRPr b="0" lang="en-US" sz="4400" spc="-1" strike="noStrike">
              <a:solidFill>
                <a:srgbClr val="000000"/>
              </a:solidFill>
              <a:latin typeface="Times New Roman"/>
            </a:endParaRPr>
          </a:p>
        </p:txBody>
      </p:sp>
      <p:sp>
        <p:nvSpPr>
          <p:cNvPr id="69" name="PlaceHolder 2"/>
          <p:cNvSpPr>
            <a:spLocks noGrp="1"/>
          </p:cNvSpPr>
          <p:nvPr>
            <p:ph/>
          </p:nvPr>
        </p:nvSpPr>
        <p:spPr>
          <a:xfrm>
            <a:off x="1186920" y="1600200"/>
            <a:ext cx="7270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2800" spc="-1" strike="noStrike">
                <a:solidFill>
                  <a:srgbClr val="000000"/>
                </a:solidFill>
                <a:latin typeface="Arial"/>
              </a:rPr>
              <a:t>One aspect of the Programme is the Profiling System. The students work on short term achievable goals in social as well as academic areas. As the Profile of their achievements is built up, the students’ self -    esteem grows. Their positive connection with school increases which helps to ensure their retention within the educational system.</a:t>
            </a:r>
            <a:endParaRPr b="0" lang="en-US" sz="2800" spc="-1" strike="noStrike">
              <a:solidFill>
                <a:srgbClr val="000000"/>
              </a:solidFill>
              <a:latin typeface="Times New Roman"/>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402920" y="692280"/>
            <a:ext cx="7054920" cy="5403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The student receives  an individualised student profile of skills, knowledge and achievement  covering a broad range of personal and social skills in addition to academic achievement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The process of preparing for this student profile is at the heart of the JCSP. </a:t>
            </a:r>
            <a:endParaRPr b="0" lang="en-US" sz="3200" spc="-1" strike="noStrike">
              <a:solidFill>
                <a:srgbClr val="000000"/>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	</a:t>
            </a:r>
            <a:r>
              <a:rPr b="0" lang="en-IE" sz="1600" spc="-1" strike="noStrike">
                <a:solidFill>
                  <a:srgbClr val="000000"/>
                </a:solidFill>
                <a:latin typeface="Arial"/>
              </a:rPr>
              <a:t>	</a:t>
            </a:r>
            <a:r>
              <a:rPr b="0" lang="en-IE" sz="1600" spc="-1" strike="noStrike">
                <a:solidFill>
                  <a:srgbClr val="000000"/>
                </a:solidFill>
                <a:latin typeface="Arial"/>
              </a:rPr>
              <a:t>	</a:t>
            </a:r>
            <a:r>
              <a:rPr b="0" lang="en-IE" sz="1600" spc="-1" strike="noStrike">
                <a:solidFill>
                  <a:srgbClr val="000000"/>
                </a:solidFill>
                <a:latin typeface="Arial"/>
              </a:rPr>
              <a:t>	</a:t>
            </a:r>
            <a:r>
              <a:rPr b="0" lang="en-IE" sz="1600" spc="-1" strike="noStrike">
                <a:solidFill>
                  <a:srgbClr val="000000"/>
                </a:solidFill>
                <a:latin typeface="Arial"/>
              </a:rPr>
              <a:t>	</a:t>
            </a:r>
            <a:r>
              <a:rPr b="0" lang="en-IE" sz="1600" spc="-1" strike="noStrike">
                <a:solidFill>
                  <a:srgbClr val="000000"/>
                </a:solidFill>
                <a:latin typeface="Arial"/>
              </a:rPr>
              <a:t>Evaluation: Building on Success</a:t>
            </a:r>
            <a:endParaRPr b="0" lang="en-US" sz="1600" spc="-1" strike="noStrike">
              <a:solidFill>
                <a:srgbClr val="000000"/>
              </a:solidFill>
              <a:latin typeface="Times New Roman"/>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rcRect l="85502" t="0" r="0" b="0"/>
          <a:stretch/>
        </p:blipFill>
        <p:spPr>
          <a:xfrm>
            <a:off x="598320" y="457200"/>
            <a:ext cx="239760" cy="6095880"/>
          </a:xfrm>
          <a:prstGeom prst="rect">
            <a:avLst/>
          </a:prstGeom>
          <a:ln w="0">
            <a:noFill/>
          </a:ln>
        </p:spPr>
      </p:pic>
      <p:sp>
        <p:nvSpPr>
          <p:cNvPr id="72" name=""/>
          <p:cNvSpPr/>
          <p:nvPr/>
        </p:nvSpPr>
        <p:spPr>
          <a:xfrm>
            <a:off x="1143000" y="914400"/>
            <a:ext cx="7238880" cy="5031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
          <p:cNvSpPr/>
          <p:nvPr/>
        </p:nvSpPr>
        <p:spPr>
          <a:xfrm>
            <a:off x="2209680" y="0"/>
            <a:ext cx="7201080" cy="6858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udent Folders</a:t>
            </a:r>
            <a:endParaRPr b="0" lang="en-US" sz="3600" spc="-1" strike="noStrike">
              <a:solidFill>
                <a:srgbClr val="000000"/>
              </a:solidFill>
              <a:latin typeface="Times New Roman"/>
            </a:endParaRPr>
          </a:p>
        </p:txBody>
      </p:sp>
      <p:sp>
        <p:nvSpPr>
          <p:cNvPr id="74" name=""/>
          <p:cNvSpPr/>
          <p:nvPr/>
        </p:nvSpPr>
        <p:spPr>
          <a:xfrm>
            <a:off x="1143000" y="609480"/>
            <a:ext cx="7467480" cy="528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tudent has a folder contain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copy of the statements they are working on </a:t>
            </a:r>
            <a:r>
              <a:rPr b="0" lang="en-US" sz="2400" spc="-1" strike="noStrike">
                <a:solidFill>
                  <a:srgbClr val="000000"/>
                </a:solidFill>
                <a:latin typeface="Arial"/>
              </a:rPr>
              <a:t>where they track their own progress with the help of the teacher.</a:t>
            </a:r>
            <a:endParaRPr b="0" lang="en-US" sz="2400" spc="-1" strike="noStrike">
              <a:solidFill>
                <a:srgbClr val="000000"/>
              </a:solidFill>
              <a:latin typeface="Times New Roman"/>
            </a:endParaRPr>
          </a:p>
          <a:p>
            <a:pPr>
              <a:lnSpc>
                <a:spcPct val="100000"/>
              </a:lnSpc>
              <a:buClr>
                <a:srgbClr val="000000"/>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hoto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0000"/>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est work. </a:t>
            </a:r>
            <a:endParaRPr b="0" lang="en-US" sz="3200" spc="-1" strike="noStrike">
              <a:solidFill>
                <a:srgbClr val="000000"/>
              </a:solidFill>
              <a:latin typeface="Times New Roman"/>
            </a:endParaRPr>
          </a:p>
          <a:p>
            <a:pPr>
              <a:lnSpc>
                <a:spcPct val="100000"/>
              </a:lnSpc>
              <a:buClr>
                <a:srgbClr val="000000"/>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folder to be proud of which is shown to their parents at every opportunit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371600" y="762120"/>
            <a:ext cx="5486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Nadianne"/>
              </a:rPr>
              <a:t>Profiling</a:t>
            </a:r>
            <a:endParaRPr b="0" lang="en-US" sz="3600" spc="-1" strike="noStrike">
              <a:solidFill>
                <a:srgbClr val="000000"/>
              </a:solidFill>
              <a:latin typeface="Times New Roman"/>
            </a:endParaRPr>
          </a:p>
        </p:txBody>
      </p:sp>
      <p:sp>
        <p:nvSpPr>
          <p:cNvPr id="76" name=""/>
          <p:cNvSpPr/>
          <p:nvPr/>
        </p:nvSpPr>
        <p:spPr>
          <a:xfrm>
            <a:off x="1295280" y="1752480"/>
            <a:ext cx="5334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ubject Statements</a:t>
            </a:r>
            <a:endParaRPr b="0" lang="en-US" sz="3200" spc="-1" strike="noStrike">
              <a:solidFill>
                <a:srgbClr val="000000"/>
              </a:solidFill>
              <a:latin typeface="Times New Roman"/>
            </a:endParaRPr>
          </a:p>
        </p:txBody>
      </p:sp>
      <p:sp>
        <p:nvSpPr>
          <p:cNvPr id="77" name=""/>
          <p:cNvSpPr/>
          <p:nvPr/>
        </p:nvSpPr>
        <p:spPr>
          <a:xfrm>
            <a:off x="1157760" y="3208320"/>
            <a:ext cx="5336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Cross-curricular</a:t>
            </a:r>
            <a:r>
              <a:rPr b="0" lang="en-IE" sz="3200" spc="-1" strike="noStrike">
                <a:solidFill>
                  <a:srgbClr val="000000"/>
                </a:solidFill>
                <a:latin typeface="Nadianne"/>
              </a:rPr>
              <a:t> Statements</a:t>
            </a:r>
            <a:endParaRPr b="0" lang="en-US" sz="32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76">
                                            <p:txEl>
                                              <p:pRg st="0" end="0"/>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7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Verdana"/>
              </a:rPr>
              <a:t>JCSP Literacy and Numeracy Strategy</a:t>
            </a:r>
            <a:endParaRPr b="0" lang="en-US" sz="3600" spc="-1" strike="noStrike">
              <a:solidFill>
                <a:srgbClr val="000000"/>
              </a:solidFill>
              <a:latin typeface="Times New Roman"/>
            </a:endParaRPr>
          </a:p>
        </p:txBody>
      </p:sp>
      <p:sp>
        <p:nvSpPr>
          <p:cNvPr id="79" name="PlaceHolder 2"/>
          <p:cNvSpPr>
            <a:spLocks noGrp="1"/>
          </p:cNvSpPr>
          <p:nvPr>
            <p:ph/>
          </p:nvPr>
        </p:nvSpPr>
        <p:spPr>
          <a:xfrm>
            <a:off x="11430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motes a whole school approach</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ggests strategies and lots of ideas that can be useful in every classroom</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terial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ort term intervention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Service: national and school bas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Verdana"/>
              </a:rPr>
              <a:t>S</a:t>
            </a:r>
            <a:r>
              <a:rPr b="0" lang="en-IE" sz="4400" spc="-1" strike="noStrike">
                <a:solidFill>
                  <a:srgbClr val="000000"/>
                </a:solidFill>
                <a:latin typeface="Times New Roman"/>
              </a:rPr>
              <a:t>uccess</a:t>
            </a:r>
            <a:endParaRPr b="0" lang="en-US" sz="4400" spc="-1" strike="noStrike">
              <a:solidFill>
                <a:srgbClr val="000000"/>
              </a:solidFill>
              <a:latin typeface="Times New Roman"/>
            </a:endParaRPr>
          </a:p>
        </p:txBody>
      </p:sp>
      <p:sp>
        <p:nvSpPr>
          <p:cNvPr id="81" name="PlaceHolder 2"/>
          <p:cNvSpPr>
            <a:spLocks noGrp="1"/>
          </p:cNvSpPr>
          <p:nvPr>
            <p:ph/>
          </p:nvPr>
        </p:nvSpPr>
        <p:spPr>
          <a:xfrm>
            <a:off x="1186920" y="1196640"/>
            <a:ext cx="7270920" cy="410364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he JCSP is successful at engaging the majority of students and hence at encouraging them to continue with their schooling. The nature and structure of the Programme including its many initiatives coupled with the implementation by schools of positive discipline programmes, generally succeeds at motivating students and fosters in them a positives attitude to their schooling. </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05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Evaluation: Building on</a:t>
            </a:r>
            <a:r>
              <a:rPr b="0" lang="en-IE" sz="1400" spc="-1" strike="noStrike">
                <a:solidFill>
                  <a:srgbClr val="000000"/>
                </a:solidFill>
                <a:latin typeface="Times New Roman"/>
              </a:rPr>
              <a:t> Success</a:t>
            </a:r>
            <a:endParaRPr b="0" lang="en-US" sz="14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Verdana"/>
              </a:rPr>
              <a:t>Jun</a:t>
            </a:r>
            <a:r>
              <a:rPr b="0" lang="en-IE" sz="3600" spc="-1" strike="noStrike">
                <a:solidFill>
                  <a:srgbClr val="000000"/>
                </a:solidFill>
                <a:latin typeface="Nadianne"/>
              </a:rPr>
              <a:t>ior Certificate with a Plus +</a:t>
            </a:r>
            <a:endParaRPr b="0" lang="en-US" sz="3600" spc="-1" strike="noStrike">
              <a:solidFill>
                <a:srgbClr val="000000"/>
              </a:solidFill>
              <a:latin typeface="Times New Roman"/>
            </a:endParaRPr>
          </a:p>
        </p:txBody>
      </p:sp>
      <p:sp>
        <p:nvSpPr>
          <p:cNvPr id="83"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Junior Certificate</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JCSP Profile</a:t>
            </a:r>
            <a:endParaRPr b="0" lang="en-US" sz="3200" spc="-1" strike="noStrike">
              <a:solidFill>
                <a:srgbClr val="000000"/>
              </a:solidFill>
              <a:latin typeface="Times New Roman"/>
            </a:endParaRPr>
          </a:p>
          <a:p>
            <a:pPr lvl="1" marL="743040" indent="-285840">
              <a:lnSpc>
                <a:spcPct val="90000"/>
              </a:lnSpc>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Certificate</a:t>
            </a:r>
            <a:endParaRPr b="0" lang="en-US" sz="3200" spc="-1" strike="noStrike">
              <a:solidFill>
                <a:srgbClr val="000000"/>
              </a:solidFill>
              <a:latin typeface="Times New Roman"/>
            </a:endParaRPr>
          </a:p>
          <a:p>
            <a:pPr lvl="1" marL="743040" indent="-285840">
              <a:lnSpc>
                <a:spcPct val="90000"/>
              </a:lnSpc>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rofile</a:t>
            </a:r>
            <a:endParaRPr b="0" lang="en-US" sz="3200" spc="-1" strike="noStrike">
              <a:solidFill>
                <a:srgbClr val="000000"/>
              </a:solidFill>
              <a:latin typeface="Times New Roman"/>
            </a:endParaRPr>
          </a:p>
          <a:p>
            <a:pPr lvl="1" marL="743040" indent="-285840">
              <a:lnSpc>
                <a:spcPct val="90000"/>
              </a:lnSpc>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Description</a:t>
            </a:r>
            <a:endParaRPr b="0" lang="en-US" sz="3200" spc="-1" strike="noStrike">
              <a:solidFill>
                <a:srgbClr val="000000"/>
              </a:solidFill>
              <a:latin typeface="Times New Roman"/>
            </a:endParaRPr>
          </a:p>
          <a:p>
            <a:pPr lvl="1" marL="743040" indent="-285840">
              <a:lnSpc>
                <a:spcPct val="90000"/>
              </a:lnSpc>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Reference</a:t>
            </a:r>
            <a:endParaRPr b="0" lang="en-US" sz="3200" spc="-1" strike="noStrike">
              <a:solidFill>
                <a:srgbClr val="000000"/>
              </a:solidFill>
              <a:latin typeface="Times New Roman"/>
            </a:endParaRPr>
          </a:p>
          <a:p>
            <a:pPr marL="343080" indent="-343080">
              <a:lnSpc>
                <a:spcPct val="90000"/>
              </a:lnSpc>
              <a:spcBef>
                <a:spcPts val="9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a:rPr>
              <a:t>Award ceremony</a:t>
            </a:r>
            <a:endParaRPr b="0" lang="en-US" sz="3600" spc="-1" strike="noStrike">
              <a:solidFill>
                <a:srgbClr val="000000"/>
              </a:solidFill>
              <a:latin typeface="Times New Roman"/>
            </a:endParaRPr>
          </a:p>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83">
                                            <p:txEl>
                                              <p:pRg st="0" end="0"/>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83">
                                            <p:txEl>
                                              <p:pRg st="1" end="1"/>
                                            </p:txEl>
                                          </p:spTgt>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499"/>
                                          </p:stCondLst>
                                        </p:cTn>
                                        <p:tgtEl>
                                          <p:spTgt spid="83">
                                            <p:txEl>
                                              <p:pRg st="2" end="2"/>
                                            </p:txEl>
                                          </p:spTgt>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499"/>
                                          </p:stCondLst>
                                        </p:cTn>
                                        <p:tgtEl>
                                          <p:spTgt spid="83">
                                            <p:txEl>
                                              <p:pRg st="3" end="3"/>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499"/>
                                          </p:stCondLst>
                                        </p:cTn>
                                        <p:tgtEl>
                                          <p:spTgt spid="83">
                                            <p:txEl>
                                              <p:pRg st="4" end="4"/>
                                            </p:txEl>
                                          </p:spTgt>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499"/>
                                          </p:stCondLst>
                                        </p:cTn>
                                        <p:tgtEl>
                                          <p:spTgt spid="83">
                                            <p:txEl>
                                              <p:pRg st="5" end="5"/>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8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523880" y="1219320"/>
            <a:ext cx="6248520" cy="424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a:rPr>
              <a:t>Junior Certificate School Programme:</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a:rPr>
              <a:t>An Early Intervention at Second Leve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Verdana"/>
              </a:rPr>
              <a:t>The Programme attempts to ensure that</a:t>
            </a:r>
            <a:r>
              <a:rPr b="0" lang="en-IE" sz="3600" spc="-1" strike="noStrike">
                <a:solidFill>
                  <a:srgbClr val="000000"/>
                </a:solidFill>
                <a:latin typeface="Verdana"/>
              </a:rPr>
              <a:t> the student</a:t>
            </a:r>
            <a:r>
              <a:rPr b="0" lang="en-GB" sz="3600" spc="-1" strike="noStrike">
                <a:solidFill>
                  <a:srgbClr val="000000"/>
                </a:solidFill>
                <a:latin typeface="Verdana"/>
              </a:rPr>
              <a:t>:</a:t>
            </a:r>
            <a:br>
              <a:rPr sz="3600"/>
            </a:br>
            <a:endParaRPr b="0" lang="en-US" sz="3600" spc="-1" strike="noStrike">
              <a:solidFill>
                <a:srgbClr val="000000"/>
              </a:solidFill>
              <a:latin typeface="Times New Roman"/>
            </a:endParaRPr>
          </a:p>
        </p:txBody>
      </p:sp>
      <p:sp>
        <p:nvSpPr>
          <p:cNvPr id="85" name=""/>
          <p:cNvSpPr/>
          <p:nvPr/>
        </p:nvSpPr>
        <p:spPr>
          <a:xfrm>
            <a:off x="914400" y="1523880"/>
            <a:ext cx="5943600" cy="4777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Nadianne"/>
              </a:rPr>
              <a:t>I</a:t>
            </a:r>
            <a:r>
              <a:rPr b="0" lang="en-GB" sz="2800" spc="-1" strike="noStrike">
                <a:solidFill>
                  <a:srgbClr val="000000"/>
                </a:solidFill>
                <a:latin typeface="Arial"/>
              </a:rPr>
              <a:t>s </a:t>
            </a:r>
            <a:r>
              <a:rPr b="0" lang="en-IE" sz="2800" spc="-1" strike="noStrike">
                <a:solidFill>
                  <a:srgbClr val="000000"/>
                </a:solidFill>
                <a:latin typeface="Arial"/>
              </a:rPr>
              <a:t>affirmed</a:t>
            </a:r>
            <a:endParaRPr b="0" lang="en-US" sz="2800" spc="-1" strike="noStrike">
              <a:solidFill>
                <a:srgbClr val="000000"/>
              </a:solidFill>
              <a:latin typeface="Times New Roman"/>
            </a:endParaRPr>
          </a:p>
        </p:txBody>
      </p:sp>
      <p:sp>
        <p:nvSpPr>
          <p:cNvPr id="86" name=""/>
          <p:cNvSpPr/>
          <p:nvPr/>
        </p:nvSpPr>
        <p:spPr>
          <a:xfrm>
            <a:off x="914400" y="2133720"/>
            <a:ext cx="6172200" cy="4777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s a pattern of success</a:t>
            </a:r>
            <a:endParaRPr b="0" lang="en-US" sz="2800" spc="-1" strike="noStrike">
              <a:solidFill>
                <a:srgbClr val="000000"/>
              </a:solidFill>
              <a:latin typeface="Times New Roman"/>
            </a:endParaRPr>
          </a:p>
        </p:txBody>
      </p:sp>
      <p:sp>
        <p:nvSpPr>
          <p:cNvPr id="87" name=""/>
          <p:cNvSpPr/>
          <p:nvPr/>
        </p:nvSpPr>
        <p:spPr>
          <a:xfrm>
            <a:off x="914400" y="2666880"/>
            <a:ext cx="5791320" cy="4777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joys</a:t>
            </a:r>
            <a:r>
              <a:rPr b="0" lang="en-GB" sz="2800" spc="-1" strike="noStrike">
                <a:solidFill>
                  <a:srgbClr val="000000"/>
                </a:solidFill>
                <a:latin typeface="Nadianne"/>
              </a:rPr>
              <a:t> School</a:t>
            </a:r>
            <a:endParaRPr b="0" lang="en-US" sz="2800" spc="-1" strike="noStrike">
              <a:solidFill>
                <a:srgbClr val="000000"/>
              </a:solidFill>
              <a:latin typeface="Times New Roman"/>
            </a:endParaRPr>
          </a:p>
        </p:txBody>
      </p:sp>
      <p:sp>
        <p:nvSpPr>
          <p:cNvPr id="88" name=""/>
          <p:cNvSpPr/>
          <p:nvPr/>
        </p:nvSpPr>
        <p:spPr>
          <a:xfrm>
            <a:off x="914400" y="3276720"/>
            <a:ext cx="5410080" cy="4777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Nadianne"/>
              </a:rPr>
              <a:t>Stays in school</a:t>
            </a:r>
            <a:endParaRPr b="0" lang="en-US" sz="2800" spc="-1" strike="noStrike">
              <a:solidFill>
                <a:srgbClr val="000000"/>
              </a:solidFill>
              <a:latin typeface="Times New Roman"/>
            </a:endParaRPr>
          </a:p>
        </p:txBody>
      </p:sp>
      <p:sp>
        <p:nvSpPr>
          <p:cNvPr id="89" name=""/>
          <p:cNvSpPr/>
          <p:nvPr/>
        </p:nvSpPr>
        <p:spPr>
          <a:xfrm>
            <a:off x="914400" y="3809880"/>
            <a:ext cx="647712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Nadianne"/>
              </a:rPr>
              <a:t>Has </a:t>
            </a:r>
            <a:r>
              <a:rPr b="0" lang="en-GB" sz="2800" spc="-1" strike="noStrike">
                <a:solidFill>
                  <a:srgbClr val="000000"/>
                </a:solidFill>
                <a:latin typeface="Nadianne"/>
              </a:rPr>
              <a:t>good news to bring home</a:t>
            </a:r>
            <a:endParaRPr b="0" lang="en-US" sz="2800" spc="-1" strike="noStrike">
              <a:solidFill>
                <a:srgbClr val="000000"/>
              </a:solidFill>
              <a:latin typeface="Times New Roman"/>
            </a:endParaRPr>
          </a:p>
        </p:txBody>
      </p:sp>
      <p:sp>
        <p:nvSpPr>
          <p:cNvPr id="90" name=""/>
          <p:cNvSpPr/>
          <p:nvPr/>
        </p:nvSpPr>
        <p:spPr>
          <a:xfrm>
            <a:off x="914400" y="4419720"/>
            <a:ext cx="571500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Nadianne"/>
              </a:rPr>
              <a:t>Feels good about themselves</a:t>
            </a:r>
            <a:endParaRPr b="0" lang="en-US" sz="2800" spc="-1" strike="noStrike">
              <a:solidFill>
                <a:srgbClr val="000000"/>
              </a:solidFill>
              <a:latin typeface="Times New Roman"/>
            </a:endParaRPr>
          </a:p>
        </p:txBody>
      </p:sp>
      <p:sp>
        <p:nvSpPr>
          <p:cNvPr id="91" name=""/>
          <p:cNvSpPr/>
          <p:nvPr/>
        </p:nvSpPr>
        <p:spPr>
          <a:xfrm>
            <a:off x="914400" y="5105520"/>
            <a:ext cx="594360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Nadianne"/>
              </a:rPr>
              <a:t>Improves </a:t>
            </a:r>
            <a:r>
              <a:rPr b="0" lang="en-GB" sz="2800" spc="-1" strike="noStrike">
                <a:solidFill>
                  <a:srgbClr val="000000"/>
                </a:solidFill>
                <a:latin typeface="Arial"/>
              </a:rPr>
              <a:t>attendance</a:t>
            </a:r>
            <a:endParaRPr b="0" lang="en-US" sz="2800" spc="-1" strike="noStrike">
              <a:solidFill>
                <a:srgbClr val="000000"/>
              </a:solidFill>
              <a:latin typeface="Times New Roman"/>
            </a:endParaRPr>
          </a:p>
        </p:txBody>
      </p:sp>
      <p:sp>
        <p:nvSpPr>
          <p:cNvPr id="92" name=""/>
          <p:cNvSpPr/>
          <p:nvPr/>
        </p:nvSpPr>
        <p:spPr>
          <a:xfrm>
            <a:off x="914400" y="5715000"/>
            <a:ext cx="594360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Nadianne"/>
              </a:rPr>
              <a:t>Sees </a:t>
            </a:r>
            <a:r>
              <a:rPr b="0" lang="en-GB" sz="2800" spc="-1" strike="noStrike">
                <a:solidFill>
                  <a:srgbClr val="000000"/>
                </a:solidFill>
                <a:latin typeface="Arial"/>
              </a:rPr>
              <a:t>possibilities</a:t>
            </a:r>
            <a:r>
              <a:rPr b="0" lang="en-GB" sz="2800" spc="-1" strike="noStrike">
                <a:solidFill>
                  <a:srgbClr val="000000"/>
                </a:solidFill>
                <a:latin typeface="Nadianne"/>
              </a:rPr>
              <a:t> for themselves</a:t>
            </a:r>
            <a:endParaRPr b="0" lang="en-US" sz="2800" spc="-1" strike="noStrike">
              <a:solidFill>
                <a:srgbClr val="000000"/>
              </a:solidFill>
              <a:latin typeface="Times New Roman"/>
            </a:endParaRPr>
          </a:p>
        </p:txBody>
      </p:sp>
    </p:spTree>
  </p:cSld>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85"/>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86">
                                            <p:txEl>
                                              <p:pRg st="0" end="0"/>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87"/>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88"/>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89"/>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90"/>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91"/>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371600" y="68580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609480" y="1600200"/>
            <a:ext cx="8229600" cy="3352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3600" spc="-1" strike="noStrike">
                <a:solidFill>
                  <a:srgbClr val="000000"/>
                </a:solidFill>
                <a:latin typeface="Arial"/>
              </a:rPr>
              <a:t>Every Student Is </a:t>
            </a:r>
            <a:br>
              <a:rPr sz="3600"/>
            </a:b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Capable of Succes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371600" y="68580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295280" y="1523880"/>
            <a:ext cx="7239240" cy="32767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Arial"/>
              </a:rPr>
              <a:t>The Programme provides schools with a framework to ensure students enjoy positive  experiences of the Junior Certificate through a creative, achievable, broad-based curriculum and go on to achieve success in the  Junior Certificate examination.</a:t>
            </a:r>
            <a:endParaRPr b="0" lang="en-US" sz="3200" spc="-1" strike="noStrike">
              <a:solidFill>
                <a:srgbClr val="000000"/>
              </a:solidFill>
              <a:latin typeface="Times New Roman"/>
            </a:endParaRPr>
          </a:p>
          <a:p>
            <a:pPr marL="318960" indent="-3189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
          <p:cNvSpPr/>
          <p:nvPr/>
        </p:nvSpPr>
        <p:spPr>
          <a:xfrm>
            <a:off x="5257800" y="2708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752480" y="2590920"/>
            <a:ext cx="54104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258920" y="2060640"/>
            <a:ext cx="7434360" cy="3733560"/>
          </a:xfrm>
          <a:prstGeom prst="rect">
            <a:avLst/>
          </a:prstGeom>
          <a:noFill/>
          <a:ln w="0">
            <a:noFill/>
          </a:ln>
        </p:spPr>
        <p:style>
          <a:lnRef idx="0"/>
          <a:fillRef idx="0"/>
          <a:effectRef idx="0"/>
          <a:fontRef idx="minor"/>
        </p:style>
        <p:txBody>
          <a:bodyPr lIns="90000" rIns="90000" tIns="46800" bIns="46800" anchor="ctr">
            <a:noAutofit/>
          </a:bodyPr>
          <a:p>
            <a:pPr>
              <a:lnSpc>
                <a:spcPct val="105000"/>
              </a:lnSpc>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Arial"/>
              </a:rPr>
              <a:t>teaching team </a:t>
            </a:r>
            <a:endParaRPr b="0" lang="en-US" sz="2800" spc="-1" strike="noStrike">
              <a:solidFill>
                <a:srgbClr val="000000"/>
              </a:solidFill>
              <a:latin typeface="Times New Roman"/>
            </a:endParaRPr>
          </a:p>
          <a:p>
            <a:pPr>
              <a:lnSpc>
                <a:spcPct val="105000"/>
              </a:lnSpc>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000000"/>
                </a:solidFill>
                <a:latin typeface="Arial"/>
              </a:rPr>
              <a:t>early intervention </a:t>
            </a:r>
            <a:endParaRPr b="0" lang="en-US" sz="2800" spc="-1" strike="noStrike">
              <a:solidFill>
                <a:srgbClr val="000000"/>
              </a:solidFill>
              <a:latin typeface="Times New Roman"/>
            </a:endParaRPr>
          </a:p>
          <a:p>
            <a:pPr>
              <a:lnSpc>
                <a:spcPct val="105000"/>
              </a:lnSpc>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filing </a:t>
            </a:r>
            <a:endParaRPr b="0" lang="en-US" sz="2800" spc="-1" strike="noStrike">
              <a:solidFill>
                <a:srgbClr val="000000"/>
              </a:solidFill>
              <a:latin typeface="Times New Roman"/>
            </a:endParaRPr>
          </a:p>
          <a:p>
            <a:pPr>
              <a:lnSpc>
                <a:spcPct val="105000"/>
              </a:lnSpc>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ccess, affirmation and celebrations</a:t>
            </a:r>
            <a:endParaRPr b="0" lang="en-US" sz="2800" spc="-1" strike="noStrike">
              <a:solidFill>
                <a:srgbClr val="000000"/>
              </a:solidFill>
              <a:latin typeface="Times New Roman"/>
            </a:endParaRPr>
          </a:p>
          <a:p>
            <a:pPr>
              <a:lnSpc>
                <a:spcPct val="105000"/>
              </a:lnSpc>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ctive learning/cross-curricular approach &amp;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utdoor education</a:t>
            </a:r>
            <a:endParaRPr b="0" lang="en-US" sz="2800" spc="-1" strike="noStrike">
              <a:solidFill>
                <a:srgbClr val="000000"/>
              </a:solidFill>
              <a:latin typeface="Times New Roman"/>
            </a:endParaRPr>
          </a:p>
          <a:p>
            <a:pPr>
              <a:lnSpc>
                <a:spcPct val="105000"/>
              </a:lnSpc>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teracy and numeracy strategy</a:t>
            </a:r>
            <a:endParaRPr b="0" lang="en-US" sz="2800" spc="-1" strike="noStrike">
              <a:solidFill>
                <a:srgbClr val="000000"/>
              </a:solidFill>
              <a:latin typeface="Times New Roman"/>
            </a:endParaRPr>
          </a:p>
          <a:p>
            <a:pPr>
              <a:lnSpc>
                <a:spcPct val="105000"/>
              </a:lnSpc>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itiatives</a:t>
            </a:r>
            <a:endParaRPr b="0" lang="en-US" sz="2800" spc="-1" strike="noStrike">
              <a:solidFill>
                <a:srgbClr val="000000"/>
              </a:solidFill>
              <a:latin typeface="Times New Roman"/>
            </a:endParaRPr>
          </a:p>
          <a:p>
            <a:pPr>
              <a:lnSpc>
                <a:spcPct val="105000"/>
              </a:lnSpc>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arents</a:t>
            </a:r>
            <a:endParaRPr b="0" lang="en-US" sz="2800" spc="-1" strike="noStrike">
              <a:solidFill>
                <a:srgbClr val="000000"/>
              </a:solidFill>
              <a:latin typeface="Times New Roman"/>
            </a:endParaRPr>
          </a:p>
        </p:txBody>
      </p:sp>
      <p:sp>
        <p:nvSpPr>
          <p:cNvPr id="54"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lements</a:t>
            </a:r>
            <a:r>
              <a:rPr b="0" lang="en-US" sz="3600" spc="-1" strike="noStrike">
                <a:solidFill>
                  <a:srgbClr val="000000"/>
                </a:solidFill>
                <a:latin typeface="Arial"/>
              </a:rPr>
              <a:t> of the Framework</a:t>
            </a:r>
            <a:br>
              <a:rPr sz="3600"/>
            </a:br>
            <a:endParaRPr b="0" lang="en-US" sz="3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59220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6" name="PlaceHolder 2"/>
          <p:cNvSpPr>
            <a:spLocks noGrp="1"/>
          </p:cNvSpPr>
          <p:nvPr>
            <p:ph/>
          </p:nvPr>
        </p:nvSpPr>
        <p:spPr>
          <a:xfrm>
            <a:off x="1042560" y="1268280"/>
            <a:ext cx="8101080" cy="4762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here is evidence to suggest that the programme helps to improve students’ motivation and attitudes to their schooling and that it contributes to improving their literacy and numeracy skills. ….the JCSP has also been innovative in introducing numerous initiatives into schools where teachers are facilitated with new and creative ways of working with students.</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	</a:t>
            </a:r>
            <a:r>
              <a:rPr b="0" lang="en-IE" sz="2800" spc="-1" strike="noStrike">
                <a:solidFill>
                  <a:srgbClr val="000000"/>
                </a:solidFill>
                <a:latin typeface="Arial"/>
              </a:rPr>
              <a:t>	</a:t>
            </a:r>
            <a:r>
              <a:rPr b="0" lang="en-IE" sz="2800" spc="-1" strike="noStrike">
                <a:solidFill>
                  <a:srgbClr val="000000"/>
                </a:solidFill>
                <a:latin typeface="Arial"/>
              </a:rPr>
              <a:t>	</a:t>
            </a:r>
            <a:r>
              <a:rPr b="0" lang="en-IE" sz="2800" spc="-1" strike="noStrike">
                <a:solidFill>
                  <a:srgbClr val="000000"/>
                </a:solidFill>
                <a:latin typeface="Arial"/>
              </a:rPr>
              <a:t>	</a:t>
            </a:r>
            <a:r>
              <a:rPr b="0" lang="en-IE" sz="2800" spc="-1" strike="noStrike">
                <a:solidFill>
                  <a:srgbClr val="000000"/>
                </a:solidFill>
                <a:latin typeface="Arial"/>
              </a:rPr>
              <a:t>	</a:t>
            </a:r>
            <a:r>
              <a:rPr b="0" lang="en-IE" sz="2400" spc="-1" strike="noStrike">
                <a:solidFill>
                  <a:srgbClr val="3333cc"/>
                </a:solidFill>
                <a:latin typeface="Arial"/>
              </a:rPr>
              <a:t>Eamon Stack, Chief Inspector</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veloping Consistent  Approaches to:</a:t>
            </a:r>
            <a:endParaRPr b="0" lang="en-US" sz="3600" spc="-1" strike="noStrike">
              <a:solidFill>
                <a:srgbClr val="000000"/>
              </a:solidFill>
              <a:latin typeface="Times New Roman"/>
            </a:endParaRPr>
          </a:p>
        </p:txBody>
      </p:sp>
      <p:sp>
        <p:nvSpPr>
          <p:cNvPr id="58" name="PlaceHolder 2"/>
          <p:cNvSpPr>
            <a:spLocks noGrp="1"/>
          </p:cNvSpPr>
          <p:nvPr>
            <p:ph/>
          </p:nvPr>
        </p:nvSpPr>
        <p:spPr>
          <a:xfrm>
            <a:off x="1371600" y="1828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adianne"/>
              </a:rPr>
              <a:t>Self-Esteem building</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adianne"/>
              </a:rPr>
              <a:t>Student Involvement &amp; Feedback</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adianne"/>
              </a:rPr>
              <a:t>Student Affirmatio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adianne"/>
              </a:rPr>
              <a:t>Behavior Modificatio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adianne"/>
              </a:rPr>
              <a:t>Disciplin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adianne"/>
              </a:rPr>
              <a:t>Literacy and Numeracy Skills Developmen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adianne"/>
              </a:rPr>
              <a:t>Personal &amp; Social Develop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Verdana"/>
              </a:rPr>
              <a:t>Classroom</a:t>
            </a:r>
            <a:endParaRPr b="0" lang="en-US" sz="4400" spc="-1" strike="noStrike">
              <a:solidFill>
                <a:srgbClr val="000000"/>
              </a:solidFill>
              <a:latin typeface="Times New Roman"/>
            </a:endParaRPr>
          </a:p>
        </p:txBody>
      </p:sp>
      <p:sp>
        <p:nvSpPr>
          <p:cNvPr id="60" name="PlaceHolder 2"/>
          <p:cNvSpPr>
            <a:spLocks noGrp="1"/>
          </p:cNvSpPr>
          <p:nvPr>
            <p:ph/>
          </p:nvPr>
        </p:nvSpPr>
        <p:spPr>
          <a:xfrm>
            <a:off x="1618920" y="990360"/>
            <a:ext cx="6838920" cy="5105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Social and personal developmen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Outdoor educatio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Success is engineered, acknowledged and celebrated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Cross curricular work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Literacy and numeracy skills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ime for reading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Strong Home school link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Co-ordinated profiling with regular feedback</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115640" y="609120"/>
            <a:ext cx="734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Verdana"/>
              </a:rPr>
              <a:t>Does JCSP Make A Difference</a:t>
            </a:r>
            <a:r>
              <a:rPr b="0" lang="en-IE"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62" name="PlaceHolder 2"/>
          <p:cNvSpPr>
            <a:spLocks noGrp="1"/>
          </p:cNvSpPr>
          <p:nvPr>
            <p:ph/>
          </p:nvPr>
        </p:nvSpPr>
        <p:spPr>
          <a:xfrm>
            <a:off x="1258920" y="1981080"/>
            <a:ext cx="71992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u="sng">
                <a:solidFill>
                  <a:srgbClr val="000000"/>
                </a:solidFill>
                <a:uFillTx/>
                <a:latin typeface="Arial"/>
              </a:rPr>
              <a:t>The JCSP contributes towards enhanced</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Attendance and retent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Motivation and attitud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Literary and numeracy achievement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Social skill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Performance in the Junior Certificate Examinat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Progression after the Junior Certificate</a:t>
            </a:r>
            <a:endParaRPr b="0" lang="en-US" sz="28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	</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	</a:t>
            </a:r>
            <a:r>
              <a:rPr b="0" lang="en-IE" sz="1400" spc="-1" strike="noStrike">
                <a:solidFill>
                  <a:srgbClr val="000000"/>
                </a:solidFill>
                <a:latin typeface="Times New Roman"/>
              </a:rPr>
              <a:t>	</a:t>
            </a:r>
            <a:r>
              <a:rPr b="0" lang="en-IE" sz="1400" spc="-1" strike="noStrike">
                <a:solidFill>
                  <a:srgbClr val="000000"/>
                </a:solidFill>
                <a:latin typeface="Times New Roman"/>
              </a:rPr>
              <a:t>	</a:t>
            </a:r>
            <a:r>
              <a:rPr b="0" lang="en-IE" sz="1400" spc="-1" strike="noStrike">
                <a:solidFill>
                  <a:srgbClr val="000000"/>
                </a:solidFill>
                <a:latin typeface="Times New Roman"/>
              </a:rPr>
              <a:t>	</a:t>
            </a:r>
            <a:r>
              <a:rPr b="0" lang="en-IE" sz="1400" spc="-1" strike="noStrike">
                <a:solidFill>
                  <a:srgbClr val="000000"/>
                </a:solidFill>
                <a:latin typeface="Times New Roman"/>
              </a:rPr>
              <a:t>	</a:t>
            </a:r>
            <a:r>
              <a:rPr b="0" lang="en-IE" sz="1400" spc="-1" strike="noStrike">
                <a:solidFill>
                  <a:srgbClr val="000000"/>
                </a:solidFill>
                <a:latin typeface="Times New Roman"/>
              </a:rPr>
              <a:t>	</a:t>
            </a:r>
            <a:r>
              <a:rPr b="0" lang="en-IE" sz="1400" spc="-1" strike="noStrike">
                <a:solidFill>
                  <a:srgbClr val="000000"/>
                </a:solidFill>
                <a:latin typeface="Times New Roman"/>
              </a:rPr>
              <a:t>Evaluation: Building on Success</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25T09:52:43Z</dcterms:created>
  <dc:creator>aidan clifford</dc:creator>
  <dc:description/>
  <dc:language>en-US</dc:language>
  <cp:lastModifiedBy>.</cp:lastModifiedBy>
  <cp:lastPrinted>1998-08-26T11:49:38Z</cp:lastPrinted>
  <dcterms:modified xsi:type="dcterms:W3CDTF">2007-09-13T14:41:42Z</dcterms:modified>
  <cp:revision>38</cp:revision>
  <dc:subject/>
  <dc:title>Junior Certificate School Programme</dc:title>
</cp:coreProperties>
</file>